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3.png" ContentType="image/png"/>
  <Override PartName="/ppt/media/image12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10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ftr" idx="10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 type="sldNum" idx="10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04C9-7671-43D0-BEAF-1D6B1A14C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AAAC-9C3F-4586-8F13-4FF4A14EB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F21F-2F22-4256-8C0F-863F64A59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76E8-D90F-4CE8-96DA-67AFCE42F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104A-3A7F-481B-B9BB-40440601738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BDB-BF2D-4601-AF50-4D00222B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379-9A6D-4BCC-9D17-BEEDFD97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B9112A-E4A0-4F71-9969-E07D68C9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C80-94BF-4A74-AB67-99B613B8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70ECA5-03C4-4CBF-88C2-0B36648B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D2ECE1-DA93-410D-9177-A17237CA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3FF1EE-EC2E-414C-A3D3-158470F9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331FA5-80CF-4B91-95F4-CC5DD90B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B92A0F-F73D-4B8E-B62B-EBD3636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11EAC4-9ED5-4A87-9FDA-9B1E67AD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7FE612-F5F3-4C87-AF73-2172B04B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B1B97F-007F-4C6F-9BD3-419CF962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83AECC-5972-4876-931C-4282E76A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717BBF-A3C3-4C9B-A6BE-2475C50A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7ED-6517-4928-8CA8-EA19A959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525F49-FC87-4605-9883-468123EE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18A99-3EE0-46D3-9C4C-6ED64075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A4B5D-0CBA-4A42-B690-50783A79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1A582-CF16-49F8-83AC-C41F0166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29B3A-5514-4D93-B527-9D371B28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855F5-2D82-46F2-AC56-250EA9CD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0832B-B71A-4534-A7BC-7480069E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516EC-A91F-4323-8DB7-25B70FEA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42ECB-6932-4E54-AB07-4C10539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972FF-1C2F-4A70-8D85-BFB10E2D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4E46-831B-45BA-B32F-C0DD5E95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EF90A-FE0C-4046-8D86-E5CFF1A1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18A87-3D72-40C3-9FAA-DA837D2F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A7E0D-1B6C-4230-9B70-DA84192A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A3D65-9771-4F5E-BC63-8D83BD9C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51C16-36C9-4A76-AD7C-BAA32A4D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44876-03E9-4A02-AD03-B540009C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E2447-3EB6-481A-8B2B-F3B8F483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701E5-82ED-45A4-882C-F5F5287F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227A8-8890-4D86-AF45-3ACF0501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21638-6F1F-46F9-8382-8E5669C1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F5A9-4C7A-48A0-9165-82221AD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24CE3-9493-4CCD-87B9-139ED5C2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09B5A-9957-4755-A776-7079F516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43DC6-9D45-47C4-AD93-0584DDF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C63FA-0AFA-4647-A04D-4C90C495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213E2-A3FF-4B79-98BB-02E8DEEE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F16948-8385-4080-A2FB-46523F7A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B518FA-9A31-40E3-B6F0-05B8CAB3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BF1C5E-6C17-4BB7-86CA-81F17669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256B41-AF1B-4421-BDB5-FC35866A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EAE172-938C-42C3-A291-3FF2497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1747-2A21-4BC6-9283-9BB26A95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F35156-4189-4918-8AD5-8B723F8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36CD56-6064-47F4-8ABC-86D00A51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B986E0-23FA-4521-A93E-E8E9784C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82EF10-D4E3-4BE7-887B-3C67EBE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F98E50-B90B-4B6B-BB31-DA81EC94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F5AAEC-3179-466A-BA49-12258757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CF850F-5E60-4915-9609-22A234DC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EEBC-3CD9-4584-B16A-5C19181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EED6-35A5-420B-AD8B-3A4BC00E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CB47-E8BB-49B1-9B58-516F69DA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3DB28-67B1-4634-8B20-95507FAB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DC749-B3EA-4FF9-A564-951A8A9D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F032E-B2B1-465D-AA02-0C7F5354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7A8B4-4D3E-426D-89E8-81E0DE16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8C622-1865-468C-B094-F744BD94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E1B5E-815E-4FC8-9C3C-E956973C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B119E-C40D-4F95-810F-9AC376B4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DE11E-133E-4BD9-9019-8216959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6B4FD-0534-4A71-92BA-3FE69168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38E5-DEEA-4BBC-8CFD-19D9F3D3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044F5-1CD0-4427-9BF2-519BB86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71530-2291-42A4-BAB7-A605183F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1AD3F-170B-4759-B844-64FFC934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E648B-4DEA-45BE-9B9F-806D5A54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42227-E140-455E-817B-791EF8BF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5FFEB-B369-4D76-838C-4665C688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2A95C-0FAD-450A-917A-23566C8C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3AAB5-2DA0-4669-BAAC-63A497B5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9BE1B-ECCC-47DA-9075-DF0A9129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47636-C2C9-4747-8C94-D9AF1EAB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0F0-6BD0-4BE1-A7D6-C82BA92D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F6CF-6D88-4DC0-8784-584AB41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66518-4176-4AED-9B5E-388F219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7BD65-FF31-4135-897C-11CE12EF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C29C8-C553-44BD-B23C-D3E7DF12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F1C6A-E014-4D73-A8A0-AD67DABD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A62A5-3B86-4AAD-8C2D-A3B9B148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EED85-7C6F-4418-8924-2D1E0B49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DF8B7-6497-4663-BD60-1E16B5B6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B0B22-BBE4-4571-AB14-843095D5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E9A56-9F55-4E63-AB9F-83848B22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89783-A375-4E4D-ADA8-DCB86916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D8AF-10B5-41AD-AA14-50A131D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C1AD0-C3E2-468A-9CEC-4892FA04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9ED7F-B991-45DB-9A18-84E4110E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E1A00-7BDD-49A8-BC91-86EB3231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30C94-F711-4F04-ABDA-F614DC99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74205-66BA-4873-9E35-ADCDCC4D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0FE72-C76F-4F34-BE94-733CD81F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1B603-C150-43E8-AC62-16302A14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11DB2-23FF-4F5F-8003-E11FE083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CFA82-B203-4D18-B28D-A8F66841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782C9-4F1E-4A7F-B2D9-0714BD65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5D49-5F18-4A60-A394-DCA2535E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29B3E-9551-406B-942C-DCF7CAD3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DA2C6-2CBC-4FB9-8AC4-1D222297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35CBA-EF0F-4F26-8974-30CB90CB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F5F63-288F-49F5-8E28-ECECF74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5A02E-D158-47F0-9AF1-748E5647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3F584-6BB5-4A92-802C-C12A03F6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08953-C812-4090-BA6A-AC299CF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7BCCE-9671-4B0E-8730-0B53F412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A17F9-3E19-4EB4-9E3B-E0EFE86E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F62CB-D4F5-4B52-8A29-36A53A07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E76B-C6DB-4EBC-BD37-80D2304F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F03C1-2EE9-411F-B5EF-5C9F0938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B4087-DD6F-450E-938D-1D218B08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2302D-0317-441C-AD68-D3834DC8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B3950-F29F-4ABA-A2B1-4260F727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F8D71-3860-4F2C-9FD7-E4DFF648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FA502-B849-413D-9527-1476594A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82274-61F2-4751-93F8-921BEA50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9DEC9-167B-4E04-A058-D07B2A2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486B1C-1121-4B81-ADE5-8E534FCF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ACCD8-0C59-494D-B80F-CCC1F486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2D42-CC99-4FFC-B495-C90B58A8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2F23E-CD4A-4E8E-A79F-51B66426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D020A-E301-4CA0-BED1-B2C20C65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98D629-BEEE-4A5A-843C-D7D9ACF3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E656E-3BD3-4AC6-9702-D16B8308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361AE-C560-4ED8-B811-D16B005E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95632-9AFF-4C67-B2B6-47B3FC5F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46C98-E2CC-4513-A4DD-2FD4C022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D3E5D-C7B8-497E-88F6-F965AC27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DDDD2-BB11-40CE-9EBF-E09F42A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65228-2998-48E2-B36B-36D92D53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FA90-4CDB-4669-ACCB-CA1FDC46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7EA1E-C607-4782-85E0-70D3FA74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C8C15-1715-4A27-AAD4-B6EE95AA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2967F-8D3F-4E3A-AE98-9A30E011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D2ABA-7541-4C7F-A9A6-44CF6935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BF17D-A6E9-43AE-8DC4-EEBEE92E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EB587-DBE7-47D3-A314-5E081BE7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6BBBA-2BFC-4425-B2A8-AE04AD66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44FF4-106A-4248-BBDC-29D717AA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B871FE-A1FD-48FA-AED4-3C7B9A80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2E7F7-6726-493B-9631-73B36D38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FEC7-FE30-47B4-98D4-07CAC8AC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37B5C-CB62-4A94-AB5A-D0A90AD6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FBC060-77F4-4A1F-8D04-3C6D7BFA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41A2B-53AA-4CC9-B351-5C9CC952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8D966-43E2-4B72-8AD8-DDB7DE61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06339-EDBE-4B7D-B8C0-B305BBEC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5A0862-B729-4CE2-947A-BDDFFBE1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A910C-5824-4286-847F-B65CC667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E7BB1-C8A6-4B59-ACD0-2F648566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64C17-2E3A-4716-9E0E-826BF401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5E821F-96E2-41C2-BA25-C6B12097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C5F9-9C4D-44ED-B156-F89FFCB0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4C7C7-DD2F-41ED-8241-67862A18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D9906-79F4-4A00-AD26-F8B7E6C6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667D8-ADF8-4F23-8975-10466D77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E5EDF-BEBB-4697-8055-05F82EC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274BC-70AE-4793-BF49-E913BC76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745D4-CB92-4437-99C9-2BED4CAA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E6446-41F8-4E85-8999-3CFA2782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64DE5-6471-4652-8050-14DCFA61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984CA-CB9A-44C5-8F0D-91CE3875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FA898-62A1-4B73-A824-E60C1226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7D49-94C5-4E15-8609-7ACF0681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AFE5B7-65AB-4F9C-9D4D-4E732AEA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64A9D-44E5-4E08-B629-4785291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3CC72-2447-4203-8AA7-1B0ACBDB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EBFE0D-63B4-4A2D-92CB-FD7DAF15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FC7E7-B63B-44A2-8451-AFBCCFE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D2371-A1A9-45A3-892F-300526E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E15DB-8B29-4268-B044-443BD8F0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2430A-0F63-4237-9206-E85E8485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BCC4B-1AF1-44A3-8C23-8E4E7AA1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F7A2D-05B2-48E0-9997-1039E678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C490-E190-46F4-A0E0-57273C0A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682F50-5A0F-4FEB-8E35-C7E5F3E8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66B450-4FF0-4B09-92F6-C9F179C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2C00B-2944-401B-BA97-4CAF1C9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03A9F1-8923-4D8E-BD26-86930E0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5BAFBE-CD5E-44AD-BE46-83E86C3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0264E-984C-449C-B660-3ABA80FD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AF5B1-7596-4A92-8167-E07D1BDD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595E68-FC72-46E8-8166-2A9FD538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EEA231-4B5D-4C8C-99FC-170E1DC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7E249-9758-46C4-A3FB-3053427A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C2E-5D4E-4DC0-A0D2-28350FD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35DF-D4DA-4F48-A46A-1BA1B85D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0514C-517A-4113-B8DA-7FB3C914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E84E40-0076-4401-97AE-28BA2F1F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E3337D-DC33-4732-B2F3-18712249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1BE223-57C4-43A6-BE1E-069531E2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2534F7-6F83-4CDD-8154-5C8D97C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8594C7-7D79-4FCD-892E-729118B5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8CAD72-666A-407A-B954-1F7FC94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CA1AD5-C48C-42EA-9C92-B09B2677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24D6C6-F97B-43BB-95F5-2CECBC3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9A3312-2168-47E2-A214-1351B249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7555-4BA4-4DE4-8AF0-857CAF56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6A12D6-EBCE-4B7B-9A16-F25EAAD9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A67ED-B4DE-49E5-8647-1A2B00DB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B0E496-74FA-4E86-AF6B-65E0384D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5F9B0E-937F-48D1-9903-E08D14F8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2CE7F7-71C0-4FA2-BDA6-11C91001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7EB57F-1164-490F-A654-7012D38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B254A-FA83-42C9-B758-48934F3A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C06CA7-4C44-42A1-9990-BD828439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E21AEC-3889-412E-B1D1-FBD69A96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B7D5C9-B8E1-4334-AF2A-5910DD0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FCF5-544B-4B85-8661-066B49BA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839D00-E7C3-4DD9-A288-B1725C1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4CE1D7-9F7B-41E6-B21D-DD8C7D8C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DE2F47-D025-4D9C-8903-6C79A339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5B7452-7609-4340-A3A7-C845358B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00A9B8-42BC-49B3-8189-0AC00255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AD498E-10ED-458A-978B-2E95C35C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7479A6-EA07-41DE-84EA-4D7BD3EF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F9309B-8B73-4D84-917A-D92E0CBB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E8FC87-6330-4CC7-A5C6-DAAA62B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B433F0-9238-4543-A92A-0F80065E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B35E-249F-4FE8-AFB7-11488AA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93F917-7AEA-49AD-8E6B-39B72510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135579-1D31-4398-A417-EF0AFF7B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572D87-8E25-4C8F-BC3C-F84CEAB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EA1958-2956-40F1-81A0-F904D1C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B79832-4766-4C2C-A6A5-0B485DBA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C6EAF7-D257-4E01-801B-9482775C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985903-457E-4FEE-BAEC-10455105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ABE4BA-258F-4F74-AF65-906B3D90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6B644D-610D-4926-B1F1-A5CD7AB7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9195A2-D15E-4785-BDC4-B8EFD89E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AA28-DDC0-407A-8300-9694ED83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893CCC-36DA-4241-A5F8-21BDE6DF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AEEB32-FE44-45D1-A423-EAF852C0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1EBF6-5DA1-4F34-8051-9246342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BD6F24-22CB-49C3-9C1A-826337CA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4EE004-8C50-44AA-8910-C08B21FD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99167D-D68F-4FF4-B6DE-B792EAA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EE28EA-C3AA-4AF4-AA7D-6EB2F2A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8FB222-E86A-4B26-9CC1-CC99925D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1C9CC0-7EA8-4EE9-A3EA-7829F374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82BCCA-BE92-4F0B-A913-72318C24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F4237-BBCB-4612-AB86-2A0AEF1B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45ED64-CD44-4448-A493-1A7524AD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78A226-F220-4E17-9902-39FD3635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5A68DB-8E12-48FC-908C-DAD1ED0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B6772F-4D0E-470F-BC00-31D0E8C9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DCD46C-38E2-40E2-B75C-019F42FF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23BE8C-6325-46C3-A87E-583E810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9A8F9D-2D92-4855-8E3B-6075B715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601C44-A46E-4681-B26C-98AA3D53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7DFC0C-568B-4D2F-BE4B-D9C58E4C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6C6A48-E00B-4F43-9C1A-F139064E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C64A-7765-4303-82F1-3CB35AD2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5D1026-BACC-44B2-9708-3A72E9E2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2BFD2A-1DFE-4DCA-A820-6E23FB91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FA89EC-E3C9-4965-A5B3-ADD29FD8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85EA1C-0BE3-4D7E-AE59-6A3C9856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127DBA-A89D-4CF2-BF12-EF76FE6B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57F87A-E154-4EF4-B58E-1930B357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A4CFE1-944E-4B40-8FE7-77D8BF53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6411FD-4C56-49B6-8B25-5A630AA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9CA01A-4FAF-497A-B8C1-8EB96CD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DA8C6F-3552-4564-8F8F-C557A32C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FE70D-9FC7-4857-9541-C6F89B82DAB5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5C38A1-DECB-481F-83BE-C4C69251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D07C28-97E3-42C4-B152-44E2768A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866CF6-2BAC-417A-8F6A-E0065944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9BC7B8-EB0C-4691-B5A0-C4F9672C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D8194E-B16C-4848-817A-760FA752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931C40-56C5-494D-9847-98AE5EE0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F06F6A-8D98-4F83-AAA3-F8E64E43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3DC8EF-D666-4EF0-8E49-34DCACA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EDA457-9B11-48D2-966A-CA2B9C9A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DEFEFE-2450-4F37-B934-399CC5A4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5851B-7201-4E69-B92E-DF966310BEF5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030A64-06B8-4652-BDFB-9624F0AE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38260A-2F07-4BA3-8D42-F3B8E79E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133CCE-0284-487F-9EC3-894B2C3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99A9E8-F22F-45B2-B9AD-8680FEED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2E0962-DBD3-4397-8C37-0851746B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964076-BF46-461F-B221-5626F8C3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38EADE-5C09-4633-9F71-0BBCEB66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B0A399-35FB-4755-83EB-29620837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A556BE-58A2-4545-AA36-84D0E52C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69A77E-FA90-41BD-A091-88D99D3D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D831C-B715-4475-8871-3CDA5EE3167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232850-CB6F-46DA-9D2F-E7A0680D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D9AF2F-E870-4F69-935D-B3281413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F3ECDF-961E-44E4-AADC-DF08C2C4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6B26DA-55CF-41C7-8DBE-54FB15AB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3E05C6-1DB4-4263-9742-46FA70A9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352D84-C94C-4D05-B844-510BCF79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83A098-4CFC-4318-BF9B-F00FF73E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306C8B-2419-4027-8C4C-6E30DA37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3BE2D5-938B-4631-81CB-2561BCAD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3C9D7F-7A76-47A6-A6F9-8B403999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0D7-09EA-4F28-9B52-5641BD9B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B9423-6BAF-4E8C-91DE-A14D8FDDC6C0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2E8557-21CD-4732-A1F3-79970076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AA65B4-1F32-4849-8C71-556D1E93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06C6C7-25A8-4A22-A470-FAFDD7E0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A65978-D3B4-4F0F-AC7A-EF2CF32B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A3A7F3-D325-4628-85DF-D32ED0F7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AE16CA-5545-41B7-BB03-AB07A9D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A520DE-E15F-4AA0-A1D4-FB048207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B98D93-4A02-42A6-93B2-12770E59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A44E23-2E67-4F92-9F67-33E8D5E5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9C841-BD1D-4B7C-AD4A-41E976B5CFA6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26E80-78A0-4581-BEDA-F8B69E7055AC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42DDC82-0611-4201-B393-C56E10D9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6E60ADC-1600-497F-90BD-2E69F6D6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DC23DED-DF1D-4BCD-BD85-C23A4E2D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9E7E198-0E92-465F-AFFB-0455A717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2D86153-9B74-4307-9DB0-D190E366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DA27661-ECA5-4EBD-ACC4-E9209673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E3DF785-45A3-491F-8FDB-7489F2F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CF3D763-2C63-4903-8B12-29AC76D9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6BFE646-CD90-4ACF-8B9D-B8EA14B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94E60-E4B5-42CD-9D03-CB402597990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55E2D48-AE10-4B5D-B2BA-020DFC36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34C4483-1C69-4E3C-8E91-228A914B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668CB3-2352-44CF-8808-550F1337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9D5B714-FCF6-42D1-990D-66C8053D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267C2D6-3F52-4287-B1AF-1E77C944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DDCDFFE-3B65-4D70-8B71-9CD5D77A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E62CE1D-4DD1-4B75-8A6C-2008720A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2A283D1-F335-42BF-AA3E-6805D94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1D8838E-7F7D-4122-9024-9B853AFB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D207C1C-5DE0-4537-88DA-ABEBFCBD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31889-8089-4829-8289-D4192CE7921D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C6BA663-F9AC-4B98-9AB2-A9ED49E0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F248247-65F3-42B8-83D1-B5E7AB3A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4623649-63CE-4FF1-A439-CF54BB9A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14F3B60-B615-4425-9FA5-31E58B22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C6765FA-3BB1-4C8F-BA8E-FD0196C8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1ADD3C6-7E5A-4B99-9264-C754B449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435DBC3-BDDF-45E5-8D76-E1495840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C02DA0F-BF06-43D0-B0E5-545C34F9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062C210-DC98-411B-B487-6FBFBFA0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FC22B33-08ED-4DAC-82A9-244E9760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FB10C-D3CD-435C-8F36-11C6F0241C78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ADD3E97-9C70-4641-B84D-9E89B4A9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ED9685E-9FBE-407A-B824-A9B0C26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DE596B8-880B-41F9-A2A4-E5DEF30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FDA8B63-1283-47DA-B74E-283263C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24E716C-4FDE-4400-97F6-96F84E8A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0725DF6-98D1-4C49-88B3-5B80ECF3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A161D40-172B-49BC-AE54-D5E78AB5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1D6B23A-A26C-4506-A914-8581E548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52A6391-37EA-4299-A75E-E508F99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D9C84A3-D2B7-4035-A03F-0121375C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87379-7EFA-48AF-B465-13F5E6954D43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3986EF2-6DC1-489B-A99D-44CD25B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3ABBF03-1AC3-40CC-A34F-B72CA62C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D8839BE-1FE7-45BE-B37A-37D0AECF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E8AE99C-1F95-4330-8B99-8D6D7A44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F611434-7ECC-4139-996A-593237E7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698E1D6-A8EC-48C2-8EA7-327FFD77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8F94F12-B953-4CF0-A6C9-401CAD46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EC38BE2-ED0F-4F4F-BC15-DA324EE0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11C152D-A341-41AD-93BE-3271DAFF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4F978-565B-45AF-A56C-4B0B3CBE97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F88AA-BAEA-4361-B1B4-155F591ED4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64DCA-3595-4EB5-A0AF-56BADEEA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602-670D-4FC9-BA73-B41DBA31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FD46A-6674-4C30-80EA-471689E4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8838D-B47A-4A6F-91DA-BA27D26D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0AA58-3594-48B7-AE6D-D76A35D4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D61CF-5711-42ED-852B-6A9A553A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88134-5E36-4E48-AF83-6C2147E1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E8372-69E7-46EE-9696-784D7F8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051E1-BD7D-4E92-871C-BB7B95AF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B90D7-579B-4EFB-BC39-603031F7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5E888-DE14-45AF-8B38-1332B97E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C9564-C421-4EAB-ABEB-6B3AA259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DE2-7D07-43FA-81D5-820905A1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1D574-D94C-419D-AA53-7BF545D6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0DB28-CC00-4151-A6C5-AC4D8D0C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6EC4DE-9E70-4C2E-AF0C-38ACD832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B4900-BB42-49BE-BB69-A4E632B3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813E4-16B0-4FCA-91D3-0B568B22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35DF8-E8D4-4905-8052-F08C464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FBE1C-D1C8-4C87-8328-1052F593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D323A-2278-4CE2-9205-E0821220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A92C0-1A54-44A5-A3DE-6942460B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5C8D8-8305-4226-84D2-B2B723C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2BD-AE49-4F87-8741-FD2D4B69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DA143-F2F9-41D5-92F7-254E11DC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26242-4928-43A7-9290-2AF21D88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848C2-0FD8-4A44-BE7B-78FB398D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9EA-E0E7-4376-9FDD-7155F626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7DE-C92A-4452-8AAD-F0E1640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A1D7-B11E-4D23-B0AA-D360B754B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FC79-CCD9-4F0A-85C6-B97346BB95D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C49-54C4-4BFE-8814-99F56EA4E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CE2F-015E-428A-8EF0-0C550A13BC7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A6CF-CC89-4B4A-804A-47909BC8C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DDC3-D2B9-4374-B445-DCC997A9169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F678-88F8-4792-8CB5-6CA269F1C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86C5-FF7A-4122-898B-640DA282A69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4CC3-4842-41BB-9DDB-90B101139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0B63-1283-4E5C-9F5F-0984F5A51BB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3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BB4B-9D9C-46BD-A582-DB7C185EA60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49E-890B-4BC6-8BD7-6A4622001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7655-516B-4D5E-859C-3FA206A4339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1489-955D-454D-88D4-E193BE828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9734-722B-4EA8-A35D-08AAED2E97F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A90-02AA-4355-A605-404F24FD8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BA18-E93D-41F0-BF3A-0C9A76CD8AC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4C93-437E-430F-8CF6-CA4136C4D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0490-B94A-4718-A4FA-A46203792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C8CB-AD66-49F4-9A4D-071C4763EC5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71B-172B-43C5-9867-786920C5D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3704-665C-411A-B95E-DD5BF935061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DA9C-3483-46F2-AEC0-89F35E380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043D-7089-4187-8875-D15BE1106A8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5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361D-7239-4DAB-8792-976895B25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48D-9DE5-4B9A-8832-A521DBC7769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5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5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D8DB-91F5-4EDD-971F-BB61652D1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A8D1-D7F0-4432-941D-22DD8DB23E0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DD9-08DD-4EC3-BEF1-1D85D8F35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4A80-B18D-4608-9B9C-5EEF5EBF788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59EE-8C0C-45B3-A744-EC1B96BBE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DB98-801E-4928-932D-E1D0FC152B3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120B-3140-40BA-B077-04A7D88D9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C903-534A-469C-8C86-2361F23A3C0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01C3-FD40-4177-B79F-BD7C70FFB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8594-EC19-4C6C-B155-9F823B6FC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95FA-831A-4279-8676-A4ACB7CA01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062F-B34B-42C3-A7BC-52D434EED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E6AE-326B-4664-8FC5-44AB2BC49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EEF7-4219-4FE3-BDE0-CA514E0FE1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297F-E2C0-49D9-8042-2ACD3517E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2510-9E09-4801-BF82-EBB7FB3A9A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BA34-3C1E-464A-8196-5B2C4978D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7AC8-818D-45EF-9DD9-1DFA65B138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EEAF-7F4E-42B4-9F4B-1B71E78C4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3931-25AC-4287-9853-B0A5F756CE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DFDD-5247-4900-BF1F-98ACE89F7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3524-61CF-4581-B370-276899D6D1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CC9D-C199-43DE-9617-261422D89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23AD-2839-4E36-B01E-5C6EB7E71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617A-9F6F-4699-AD0E-26C972D7A5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BF94-D93C-4424-A723-C057DBED0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6955-2AB3-4410-96FB-EF920844A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FEE9-65FF-4245-9D4F-21658B942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5A6D-8091-4215-99A7-9D21BFA8D6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F424-FCB3-4123-9B72-9DE7858FD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F17B-AE7A-487A-B654-78EB89F286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8EDF-91F5-40DA-8B63-FF491BB5B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6DBB-1F8E-4454-A5EE-49A23DBB6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544A-6220-4592-9AC7-F8DD9F3918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751B-EA14-45B8-9632-5349C1C63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1028-5218-499F-B7D9-BC181CD2AB6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8720-D5F0-46BD-BAA4-45FAB6D42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409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ubtitle 2" descr=""/>
          <p:cNvPicPr/>
          <p:nvPr/>
        </p:nvPicPr>
        <p:blipFill>
          <a:blip r:embed="rId1"/>
          <a:stretch/>
        </p:blipFill>
        <p:spPr>
          <a:xfrm>
            <a:off x="1670040" y="3389400"/>
            <a:ext cx="5578560" cy="14637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643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670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647" name="Rectangle 9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Picture 2" descr=""/>
          <p:cNvPicPr/>
          <p:nvPr/>
        </p:nvPicPr>
        <p:blipFill>
          <a:blip r:embed="rId1"/>
          <a:stretch/>
        </p:blipFill>
        <p:spPr>
          <a:xfrm>
            <a:off x="120600" y="1757520"/>
            <a:ext cx="8866080" cy="4497120"/>
          </a:xfrm>
          <a:prstGeom prst="rect">
            <a:avLst/>
          </a:prstGeom>
          <a:ln w="0">
            <a:noFill/>
          </a:ln>
        </p:spPr>
      </p:pic>
      <p:sp>
        <p:nvSpPr>
          <p:cNvPr id="1989" name="TextBox 3"/>
          <p:cNvSpPr/>
          <p:nvPr/>
        </p:nvSpPr>
        <p:spPr>
          <a:xfrm>
            <a:off x="157680" y="533520"/>
            <a:ext cx="892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 of Farming Systems in Bridging CAADP-CGIAR 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ublin Process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4"/>
          <p:cNvSpPr/>
          <p:nvPr/>
        </p:nvSpPr>
        <p:spPr>
          <a:xfrm>
            <a:off x="242280" y="625644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ft  Conceptual Framework, Nov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1" name="Group 52"/>
          <p:cNvGrpSpPr/>
          <p:nvPr/>
        </p:nvGrpSpPr>
        <p:grpSpPr>
          <a:xfrm>
            <a:off x="341280" y="1079640"/>
            <a:ext cx="5129280" cy="5194080"/>
            <a:chOff x="341280" y="1079640"/>
            <a:chExt cx="5129280" cy="5194080"/>
          </a:xfrm>
        </p:grpSpPr>
        <p:sp>
          <p:nvSpPr>
            <p:cNvPr id="1992" name="Rectangle 49"/>
            <p:cNvSpPr/>
            <p:nvPr/>
          </p:nvSpPr>
          <p:spPr>
            <a:xfrm>
              <a:off x="595080" y="107964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astern &amp; Southern Africa Maize-based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8"/>
            <p:cNvSpPr/>
            <p:nvPr/>
          </p:nvSpPr>
          <p:spPr>
            <a:xfrm>
              <a:off x="341280" y="143172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thiopian High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5"/>
          <p:cNvSpPr/>
          <p:nvPr/>
        </p:nvSpPr>
        <p:spPr>
          <a:xfrm>
            <a:off x="111240" y="1765440"/>
            <a:ext cx="4876560" cy="48402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dano-Sahelia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5" name="Group 59"/>
          <p:cNvGrpSpPr/>
          <p:nvPr/>
        </p:nvGrpSpPr>
        <p:grpSpPr>
          <a:xfrm>
            <a:off x="276120" y="2540160"/>
            <a:ext cx="4492800" cy="3993840"/>
            <a:chOff x="276120" y="2540160"/>
            <a:chExt cx="4492800" cy="3993840"/>
          </a:xfrm>
        </p:grpSpPr>
        <p:sp>
          <p:nvSpPr>
            <p:cNvPr id="1996" name="TextBox 44"/>
            <p:cNvSpPr/>
            <p:nvPr/>
          </p:nvSpPr>
          <p:spPr>
            <a:xfrm>
              <a:off x="276120" y="499140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7" name="Group 51"/>
            <p:cNvGrpSpPr/>
            <p:nvPr/>
          </p:nvGrpSpPr>
          <p:grpSpPr>
            <a:xfrm>
              <a:off x="329400" y="2540160"/>
              <a:ext cx="4439520" cy="3993840"/>
              <a:chOff x="329400" y="2540160"/>
              <a:chExt cx="4439520" cy="3993840"/>
            </a:xfrm>
          </p:grpSpPr>
          <p:sp>
            <p:nvSpPr>
              <p:cNvPr id="1998" name="Freeform 17"/>
              <p:cNvSpPr/>
              <p:nvPr/>
            </p:nvSpPr>
            <p:spPr>
              <a:xfrm>
                <a:off x="1148760" y="2540160"/>
                <a:ext cx="3620160" cy="3887640"/>
              </a:xfrm>
              <a:custGeom>
                <a:avLst/>
                <a:gdLst/>
                <a:ahLst/>
                <a:rect l="l" t="t" r="r" b="b"/>
                <a:pathLst>
                  <a:path w="846312" h="590559">
                    <a:moveTo>
                      <a:pt x="139145" y="62327"/>
                    </a:moveTo>
                    <a:cubicBezTo>
                      <a:pt x="215345" y="36811"/>
                      <a:pt x="365568" y="-5859"/>
                      <a:pt x="478779" y="672"/>
                    </a:cubicBezTo>
                    <a:cubicBezTo>
                      <a:pt x="591990" y="7203"/>
                      <a:pt x="766162" y="36811"/>
                      <a:pt x="818413" y="101515"/>
                    </a:cubicBezTo>
                    <a:cubicBezTo>
                      <a:pt x="870665" y="166219"/>
                      <a:pt x="842362" y="308344"/>
                      <a:pt x="792288" y="388898"/>
                    </a:cubicBezTo>
                    <a:cubicBezTo>
                      <a:pt x="742214" y="469452"/>
                      <a:pt x="583282" y="560893"/>
                      <a:pt x="517968" y="584841"/>
                    </a:cubicBezTo>
                    <a:cubicBezTo>
                      <a:pt x="452654" y="608789"/>
                      <a:pt x="441950" y="550924"/>
                      <a:pt x="400402" y="532589"/>
                    </a:cubicBezTo>
                    <a:cubicBezTo>
                      <a:pt x="358854" y="514254"/>
                      <a:pt x="333717" y="495498"/>
                      <a:pt x="268679" y="474832"/>
                    </a:cubicBezTo>
                    <a:cubicBezTo>
                      <a:pt x="203641" y="454166"/>
                      <a:pt x="49180" y="440334"/>
                      <a:pt x="10174" y="408595"/>
                    </a:cubicBezTo>
                    <a:cubicBezTo>
                      <a:pt x="-28832" y="376856"/>
                      <a:pt x="58591" y="319229"/>
                      <a:pt x="34642" y="284395"/>
                    </a:cubicBezTo>
                    <a:cubicBezTo>
                      <a:pt x="10693" y="249561"/>
                      <a:pt x="6339" y="192956"/>
                      <a:pt x="21579" y="153767"/>
                    </a:cubicBezTo>
                    <a:cubicBezTo>
                      <a:pt x="36819" y="114579"/>
                      <a:pt x="62945" y="87843"/>
                      <a:pt x="139145" y="62327"/>
                    </a:cubicBezTo>
                    <a:close/>
                  </a:path>
                </a:pathLst>
              </a:custGeom>
              <a:solidFill>
                <a:srgbClr val="c3d69b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46"/>
              <p:cNvSpPr/>
              <p:nvPr/>
            </p:nvSpPr>
            <p:spPr>
              <a:xfrm>
                <a:off x="329400" y="5389560"/>
                <a:ext cx="1497240" cy="1144440"/>
              </a:xfrm>
              <a:custGeom>
                <a:avLst/>
                <a:gdLst/>
                <a:ahLst/>
                <a:rect l="l" t="t" r="r" b="b"/>
                <a:pathLst>
                  <a:path w="700442" h="450127">
                    <a:moveTo>
                      <a:pt x="47680" y="152"/>
                    </a:moveTo>
                    <a:cubicBezTo>
                      <a:pt x="150531" y="4734"/>
                      <a:pt x="595121" y="86424"/>
                      <a:pt x="677852" y="158270"/>
                    </a:cubicBezTo>
                    <a:cubicBezTo>
                      <a:pt x="760583" y="230116"/>
                      <a:pt x="593089" y="386741"/>
                      <a:pt x="544069" y="431226"/>
                    </a:cubicBezTo>
                    <a:cubicBezTo>
                      <a:pt x="495049" y="475711"/>
                      <a:pt x="458886" y="428114"/>
                      <a:pt x="383731" y="425182"/>
                    </a:cubicBezTo>
                    <a:cubicBezTo>
                      <a:pt x="308576" y="422250"/>
                      <a:pt x="151050" y="442000"/>
                      <a:pt x="93141" y="413633"/>
                    </a:cubicBezTo>
                    <a:cubicBezTo>
                      <a:pt x="35232" y="385266"/>
                      <a:pt x="41675" y="302122"/>
                      <a:pt x="36275" y="254980"/>
                    </a:cubicBezTo>
                    <a:cubicBezTo>
                      <a:pt x="30875" y="207838"/>
                      <a:pt x="84692" y="165614"/>
                      <a:pt x="60743" y="130780"/>
                    </a:cubicBezTo>
                    <a:cubicBezTo>
                      <a:pt x="36794" y="95946"/>
                      <a:pt x="-55171" y="-4430"/>
                      <a:pt x="47680" y="152"/>
                    </a:cubicBezTo>
                    <a:close/>
                  </a:path>
                </a:pathLst>
              </a:custGeom>
              <a:solidFill>
                <a:srgbClr val="99ff33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0" name="Group 56"/>
          <p:cNvGrpSpPr/>
          <p:nvPr/>
        </p:nvGrpSpPr>
        <p:grpSpPr>
          <a:xfrm>
            <a:off x="452520" y="2608200"/>
            <a:ext cx="4048200" cy="3156120"/>
            <a:chOff x="452520" y="2608200"/>
            <a:chExt cx="4048200" cy="3156120"/>
          </a:xfrm>
        </p:grpSpPr>
        <p:grpSp>
          <p:nvGrpSpPr>
            <p:cNvPr id="2001" name="Group 54"/>
            <p:cNvGrpSpPr/>
            <p:nvPr/>
          </p:nvGrpSpPr>
          <p:grpSpPr>
            <a:xfrm>
              <a:off x="452520" y="2608200"/>
              <a:ext cx="4048200" cy="3156120"/>
              <a:chOff x="452520" y="2608200"/>
              <a:chExt cx="4048200" cy="3156120"/>
            </a:xfrm>
          </p:grpSpPr>
          <p:grpSp>
            <p:nvGrpSpPr>
              <p:cNvPr id="2002" name="Group 20"/>
              <p:cNvGrpSpPr/>
              <p:nvPr/>
            </p:nvGrpSpPr>
            <p:grpSpPr>
              <a:xfrm>
                <a:off x="1794960" y="2947680"/>
                <a:ext cx="2705760" cy="2816640"/>
                <a:chOff x="1794960" y="2947680"/>
                <a:chExt cx="2705760" cy="2816640"/>
              </a:xfrm>
            </p:grpSpPr>
            <p:sp>
              <p:nvSpPr>
                <p:cNvPr id="2003" name="Freeform 10"/>
                <p:cNvSpPr/>
                <p:nvPr/>
              </p:nvSpPr>
              <p:spPr>
                <a:xfrm>
                  <a:off x="2812680" y="3455640"/>
                  <a:ext cx="808200" cy="677880"/>
                </a:xfrm>
                <a:custGeom>
                  <a:avLst/>
                  <a:gdLst/>
                  <a:ahLst/>
                  <a:rect l="l" t="t" r="r" b="b"/>
                  <a:pathLst>
                    <a:path w="808354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88307" y="146869"/>
                        <a:pt x="805724" y="188235"/>
                      </a:cubicBezTo>
                      <a:cubicBezTo>
                        <a:pt x="823141" y="229601"/>
                        <a:pt x="716461" y="223069"/>
                        <a:pt x="714284" y="253549"/>
                      </a:cubicBezTo>
                      <a:cubicBezTo>
                        <a:pt x="712107" y="284029"/>
                        <a:pt x="781775" y="334104"/>
                        <a:pt x="792661" y="371115"/>
                      </a:cubicBezTo>
                      <a:cubicBezTo>
                        <a:pt x="803547" y="408126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5130" y="543109"/>
                        <a:pt x="361587" y="540932"/>
                      </a:cubicBezTo>
                      <a:cubicBezTo>
                        <a:pt x="318044" y="538755"/>
                        <a:pt x="161290" y="621487"/>
                        <a:pt x="126456" y="606247"/>
                      </a:cubicBezTo>
                      <a:cubicBezTo>
                        <a:pt x="91622" y="591007"/>
                        <a:pt x="169998" y="488681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13"/>
                <p:cNvSpPr/>
                <p:nvPr/>
              </p:nvSpPr>
              <p:spPr>
                <a:xfrm>
                  <a:off x="3851280" y="3266640"/>
                  <a:ext cx="649440" cy="868320"/>
                </a:xfrm>
                <a:custGeom>
                  <a:avLst/>
                  <a:gdLst/>
                  <a:ahLst/>
                  <a:rect l="l" t="t" r="r" b="b"/>
                  <a:pathLst>
                    <a:path w="649272" h="867634">
                      <a:moveTo>
                        <a:pt x="105001" y="127848"/>
                      </a:moveTo>
                      <a:cubicBezTo>
                        <a:pt x="157252" y="108254"/>
                        <a:pt x="224744" y="-39792"/>
                        <a:pt x="314007" y="10282"/>
                      </a:cubicBezTo>
                      <a:cubicBezTo>
                        <a:pt x="403270" y="60356"/>
                        <a:pt x="601390" y="360803"/>
                        <a:pt x="640579" y="428294"/>
                      </a:cubicBezTo>
                      <a:cubicBezTo>
                        <a:pt x="679768" y="495786"/>
                        <a:pt x="575265" y="345563"/>
                        <a:pt x="549139" y="415231"/>
                      </a:cubicBezTo>
                      <a:cubicBezTo>
                        <a:pt x="523013" y="484900"/>
                        <a:pt x="518658" y="785345"/>
                        <a:pt x="483824" y="846305"/>
                      </a:cubicBezTo>
                      <a:cubicBezTo>
                        <a:pt x="448990" y="907265"/>
                        <a:pt x="411979" y="822357"/>
                        <a:pt x="340133" y="780991"/>
                      </a:cubicBezTo>
                      <a:cubicBezTo>
                        <a:pt x="268287" y="739625"/>
                        <a:pt x="105001" y="641654"/>
                        <a:pt x="52750" y="598111"/>
                      </a:cubicBezTo>
                      <a:cubicBezTo>
                        <a:pt x="499" y="554568"/>
                        <a:pt x="9207" y="561100"/>
                        <a:pt x="26624" y="519734"/>
                      </a:cubicBezTo>
                      <a:cubicBezTo>
                        <a:pt x="44041" y="478368"/>
                        <a:pt x="161607" y="415231"/>
                        <a:pt x="157253" y="349917"/>
                      </a:cubicBezTo>
                      <a:cubicBezTo>
                        <a:pt x="152899" y="284603"/>
                        <a:pt x="7031" y="169214"/>
                        <a:pt x="499" y="127848"/>
                      </a:cubicBezTo>
                      <a:cubicBezTo>
                        <a:pt x="-6033" y="86482"/>
                        <a:pt x="52750" y="147442"/>
                        <a:pt x="105001" y="127848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14"/>
                <p:cNvSpPr/>
                <p:nvPr/>
              </p:nvSpPr>
              <p:spPr>
                <a:xfrm>
                  <a:off x="1794960" y="4128840"/>
                  <a:ext cx="843120" cy="1014480"/>
                </a:xfrm>
                <a:custGeom>
                  <a:avLst/>
                  <a:gdLst/>
                  <a:ahLst/>
                  <a:rect l="l" t="t" r="r" b="b"/>
                  <a:pathLst>
                    <a:path w="843315" h="1014208">
                      <a:moveTo>
                        <a:pt x="368999" y="470328"/>
                      </a:moveTo>
                      <a:cubicBezTo>
                        <a:pt x="338519" y="498631"/>
                        <a:pt x="382062" y="439848"/>
                        <a:pt x="460439" y="431140"/>
                      </a:cubicBezTo>
                      <a:cubicBezTo>
                        <a:pt x="538816" y="422432"/>
                        <a:pt x="806605" y="372357"/>
                        <a:pt x="839262" y="418077"/>
                      </a:cubicBezTo>
                      <a:cubicBezTo>
                        <a:pt x="871919" y="463797"/>
                        <a:pt x="697748" y="607489"/>
                        <a:pt x="656382" y="705460"/>
                      </a:cubicBezTo>
                      <a:cubicBezTo>
                        <a:pt x="615016" y="803431"/>
                        <a:pt x="667268" y="973248"/>
                        <a:pt x="591068" y="1005905"/>
                      </a:cubicBezTo>
                      <a:cubicBezTo>
                        <a:pt x="514868" y="1038562"/>
                        <a:pt x="290622" y="968893"/>
                        <a:pt x="199182" y="901402"/>
                      </a:cubicBezTo>
                      <a:cubicBezTo>
                        <a:pt x="107742" y="833911"/>
                        <a:pt x="75085" y="690220"/>
                        <a:pt x="42428" y="600957"/>
                      </a:cubicBezTo>
                      <a:cubicBezTo>
                        <a:pt x="9771" y="511694"/>
                        <a:pt x="-7647" y="424608"/>
                        <a:pt x="3239" y="365825"/>
                      </a:cubicBezTo>
                      <a:cubicBezTo>
                        <a:pt x="14125" y="307042"/>
                        <a:pt x="64199" y="293980"/>
                        <a:pt x="107742" y="248260"/>
                      </a:cubicBezTo>
                      <a:cubicBezTo>
                        <a:pt x="151285" y="202540"/>
                        <a:pt x="199182" y="132871"/>
                        <a:pt x="264496" y="91505"/>
                      </a:cubicBezTo>
                      <a:cubicBezTo>
                        <a:pt x="329810" y="50139"/>
                        <a:pt x="436491" y="-2112"/>
                        <a:pt x="499628" y="65"/>
                      </a:cubicBezTo>
                      <a:cubicBezTo>
                        <a:pt x="562765" y="2242"/>
                        <a:pt x="619371" y="61025"/>
                        <a:pt x="643319" y="104568"/>
                      </a:cubicBezTo>
                      <a:cubicBezTo>
                        <a:pt x="667267" y="148111"/>
                        <a:pt x="682507" y="200362"/>
                        <a:pt x="643319" y="261322"/>
                      </a:cubicBezTo>
                      <a:cubicBezTo>
                        <a:pt x="604131" y="322282"/>
                        <a:pt x="399479" y="442025"/>
                        <a:pt x="368999" y="47032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15"/>
                <p:cNvSpPr/>
                <p:nvPr/>
              </p:nvSpPr>
              <p:spPr>
                <a:xfrm>
                  <a:off x="3454200" y="4259160"/>
                  <a:ext cx="817560" cy="677880"/>
                </a:xfrm>
                <a:custGeom>
                  <a:avLst/>
                  <a:gdLst/>
                  <a:ahLst/>
                  <a:rect l="l" t="t" r="r" b="b"/>
                  <a:pathLst>
                    <a:path w="817237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75244" y="127275"/>
                        <a:pt x="805724" y="188235"/>
                      </a:cubicBezTo>
                      <a:cubicBezTo>
                        <a:pt x="836204" y="249195"/>
                        <a:pt x="797015" y="323218"/>
                        <a:pt x="792661" y="371115"/>
                      </a:cubicBezTo>
                      <a:cubicBezTo>
                        <a:pt x="788307" y="419012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0776" y="569235"/>
                        <a:pt x="361587" y="540932"/>
                      </a:cubicBezTo>
                      <a:cubicBezTo>
                        <a:pt x="322398" y="512629"/>
                        <a:pt x="209187" y="477795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11"/>
                <p:cNvSpPr/>
                <p:nvPr/>
              </p:nvSpPr>
              <p:spPr>
                <a:xfrm>
                  <a:off x="3098520" y="4861080"/>
                  <a:ext cx="760680" cy="903240"/>
                </a:xfrm>
                <a:custGeom>
                  <a:avLst/>
                  <a:gdLst/>
                  <a:ahLst/>
                  <a:rect l="l" t="t" r="r" b="b"/>
                  <a:pathLst>
                    <a:path w="759599" h="903484">
                      <a:moveTo>
                        <a:pt x="275055" y="223207"/>
                      </a:moveTo>
                      <a:cubicBezTo>
                        <a:pt x="284852" y="188373"/>
                        <a:pt x="294650" y="153539"/>
                        <a:pt x="327307" y="144830"/>
                      </a:cubicBezTo>
                      <a:cubicBezTo>
                        <a:pt x="359964" y="136121"/>
                        <a:pt x="442695" y="142652"/>
                        <a:pt x="470998" y="170955"/>
                      </a:cubicBezTo>
                      <a:cubicBezTo>
                        <a:pt x="499301" y="199258"/>
                        <a:pt x="470998" y="290698"/>
                        <a:pt x="497124" y="314647"/>
                      </a:cubicBezTo>
                      <a:cubicBezTo>
                        <a:pt x="523250" y="338596"/>
                        <a:pt x="584210" y="288521"/>
                        <a:pt x="627753" y="314647"/>
                      </a:cubicBezTo>
                      <a:cubicBezTo>
                        <a:pt x="671296" y="340773"/>
                        <a:pt x="747495" y="416973"/>
                        <a:pt x="758381" y="471401"/>
                      </a:cubicBezTo>
                      <a:cubicBezTo>
                        <a:pt x="769267" y="525829"/>
                        <a:pt x="703953" y="591144"/>
                        <a:pt x="693067" y="641218"/>
                      </a:cubicBezTo>
                      <a:cubicBezTo>
                        <a:pt x="682181" y="691292"/>
                        <a:pt x="706130" y="754430"/>
                        <a:pt x="693067" y="771847"/>
                      </a:cubicBezTo>
                      <a:cubicBezTo>
                        <a:pt x="680004" y="789264"/>
                        <a:pt x="662587" y="745721"/>
                        <a:pt x="614690" y="745721"/>
                      </a:cubicBezTo>
                      <a:cubicBezTo>
                        <a:pt x="566793" y="745721"/>
                        <a:pt x="470998" y="745721"/>
                        <a:pt x="405684" y="771847"/>
                      </a:cubicBezTo>
                      <a:cubicBezTo>
                        <a:pt x="340370" y="797973"/>
                        <a:pt x="277232" y="915538"/>
                        <a:pt x="222804" y="902475"/>
                      </a:cubicBezTo>
                      <a:cubicBezTo>
                        <a:pt x="168376" y="889412"/>
                        <a:pt x="113947" y="760961"/>
                        <a:pt x="79113" y="693470"/>
                      </a:cubicBezTo>
                      <a:cubicBezTo>
                        <a:pt x="44279" y="625979"/>
                        <a:pt x="26861" y="573727"/>
                        <a:pt x="13798" y="497527"/>
                      </a:cubicBezTo>
                      <a:cubicBezTo>
                        <a:pt x="735" y="421327"/>
                        <a:pt x="-1442" y="319001"/>
                        <a:pt x="735" y="236270"/>
                      </a:cubicBezTo>
                      <a:cubicBezTo>
                        <a:pt x="2912" y="153539"/>
                        <a:pt x="2912" y="14201"/>
                        <a:pt x="26861" y="1138"/>
                      </a:cubicBezTo>
                      <a:cubicBezTo>
                        <a:pt x="50810" y="-11925"/>
                        <a:pt x="127010" y="90401"/>
                        <a:pt x="144427" y="157893"/>
                      </a:cubicBezTo>
                      <a:cubicBezTo>
                        <a:pt x="161844" y="225385"/>
                        <a:pt x="116124" y="369076"/>
                        <a:pt x="131364" y="406087"/>
                      </a:cubicBezTo>
                      <a:cubicBezTo>
                        <a:pt x="146604" y="443098"/>
                        <a:pt x="205387" y="421327"/>
                        <a:pt x="235867" y="379961"/>
                      </a:cubicBezTo>
                      <a:cubicBezTo>
                        <a:pt x="266347" y="338595"/>
                        <a:pt x="303358" y="192727"/>
                        <a:pt x="314244" y="157893"/>
                      </a:cubicBezTo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16"/>
                <p:cNvSpPr/>
                <p:nvPr/>
              </p:nvSpPr>
              <p:spPr>
                <a:xfrm>
                  <a:off x="1794960" y="2947680"/>
                  <a:ext cx="642960" cy="831960"/>
                </a:xfrm>
                <a:custGeom>
                  <a:avLst/>
                  <a:gdLst/>
                  <a:ahLst/>
                  <a:rect l="l" t="t" r="r" b="b"/>
                  <a:pathLst>
                    <a:path w="827729" h="620363">
                      <a:moveTo>
                        <a:pt x="126456" y="91883"/>
                      </a:moveTo>
                      <a:cubicBezTo>
                        <a:pt x="202656" y="61403"/>
                        <a:pt x="352879" y="-6088"/>
                        <a:pt x="466090" y="443"/>
                      </a:cubicBezTo>
                      <a:cubicBezTo>
                        <a:pt x="579301" y="6974"/>
                        <a:pt x="751295" y="78820"/>
                        <a:pt x="805724" y="131071"/>
                      </a:cubicBezTo>
                      <a:cubicBezTo>
                        <a:pt x="860153" y="183322"/>
                        <a:pt x="797015" y="266054"/>
                        <a:pt x="792661" y="313951"/>
                      </a:cubicBezTo>
                      <a:cubicBezTo>
                        <a:pt x="788307" y="361848"/>
                        <a:pt x="827496" y="368380"/>
                        <a:pt x="779599" y="418454"/>
                      </a:cubicBezTo>
                      <a:cubicBezTo>
                        <a:pt x="731702" y="468528"/>
                        <a:pt x="570593" y="590449"/>
                        <a:pt x="505279" y="614397"/>
                      </a:cubicBezTo>
                      <a:cubicBezTo>
                        <a:pt x="439965" y="638345"/>
                        <a:pt x="411662" y="583916"/>
                        <a:pt x="387713" y="562145"/>
                      </a:cubicBezTo>
                      <a:cubicBezTo>
                        <a:pt x="363764" y="540374"/>
                        <a:pt x="400776" y="512071"/>
                        <a:pt x="361587" y="483768"/>
                      </a:cubicBezTo>
                      <a:cubicBezTo>
                        <a:pt x="322398" y="455465"/>
                        <a:pt x="209187" y="420631"/>
                        <a:pt x="152581" y="392328"/>
                      </a:cubicBezTo>
                      <a:cubicBezTo>
                        <a:pt x="135164" y="353139"/>
                        <a:pt x="45902" y="348785"/>
                        <a:pt x="21953" y="313951"/>
                      </a:cubicBezTo>
                      <a:cubicBezTo>
                        <a:pt x="-1996" y="279117"/>
                        <a:pt x="-6350" y="222512"/>
                        <a:pt x="8890" y="183323"/>
                      </a:cubicBezTo>
                      <a:cubicBezTo>
                        <a:pt x="24130" y="144135"/>
                        <a:pt x="50256" y="122363"/>
                        <a:pt x="126456" y="91883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9" name="TextBox 38"/>
              <p:cNvSpPr/>
              <p:nvPr/>
            </p:nvSpPr>
            <p:spPr>
              <a:xfrm>
                <a:off x="452520" y="2608200"/>
                <a:ext cx="78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ub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0" name="Straight Arrow Connector 41"/>
              <p:cNvCxnSpPr>
                <a:endCxn id="2005" idx="7"/>
              </p:cNvCxnSpPr>
              <p:nvPr/>
            </p:nvCxnSpPr>
            <p:spPr>
              <a:xfrm>
                <a:off x="838080" y="3160080"/>
                <a:ext cx="961200" cy="133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2011" name="Straight Arrow Connector 40"/>
            <p:cNvCxnSpPr>
              <a:endCxn id="2008" idx="10"/>
            </p:cNvCxnSpPr>
            <p:nvPr/>
          </p:nvCxnSpPr>
          <p:spPr>
            <a:xfrm>
              <a:off x="1257120" y="2918880"/>
              <a:ext cx="545040" cy="2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12" name="Group 57"/>
          <p:cNvGrpSpPr/>
          <p:nvPr/>
        </p:nvGrpSpPr>
        <p:grpSpPr>
          <a:xfrm>
            <a:off x="1985760" y="1984320"/>
            <a:ext cx="2266920" cy="4521960"/>
            <a:chOff x="1985760" y="1984320"/>
            <a:chExt cx="2266920" cy="4521960"/>
          </a:xfrm>
        </p:grpSpPr>
        <p:sp>
          <p:nvSpPr>
            <p:cNvPr id="2013" name="TextBox 25"/>
            <p:cNvSpPr/>
            <p:nvPr/>
          </p:nvSpPr>
          <p:spPr>
            <a:xfrm>
              <a:off x="2977200" y="198432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TextBox 26"/>
            <p:cNvSpPr/>
            <p:nvPr/>
          </p:nvSpPr>
          <p:spPr>
            <a:xfrm>
              <a:off x="1993320" y="61380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Straight Connector 22"/>
            <p:cNvSpPr/>
            <p:nvPr/>
          </p:nvSpPr>
          <p:spPr>
            <a:xfrm flipH="1">
              <a:off x="1985760" y="2033280"/>
              <a:ext cx="2266920" cy="42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58"/>
          <p:cNvGrpSpPr/>
          <p:nvPr/>
        </p:nvGrpSpPr>
        <p:grpSpPr>
          <a:xfrm>
            <a:off x="1908000" y="1742760"/>
            <a:ext cx="2683440" cy="3800880"/>
            <a:chOff x="1908000" y="1742760"/>
            <a:chExt cx="2683440" cy="3800880"/>
          </a:xfrm>
        </p:grpSpPr>
        <p:cxnSp>
          <p:nvCxnSpPr>
            <p:cNvPr id="2017" name="Straight Arrow Connector 37"/>
            <p:cNvCxnSpPr/>
            <p:nvPr/>
          </p:nvCxnSpPr>
          <p:spPr>
            <a:xfrm>
              <a:off x="4590720" y="1742760"/>
              <a:ext cx="1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2018" name="Group 53"/>
            <p:cNvGrpSpPr/>
            <p:nvPr/>
          </p:nvGrpSpPr>
          <p:grpSpPr>
            <a:xfrm>
              <a:off x="1908000" y="2108160"/>
              <a:ext cx="2536920" cy="3435480"/>
              <a:chOff x="1908000" y="2108160"/>
              <a:chExt cx="2536920" cy="3435480"/>
            </a:xfrm>
          </p:grpSpPr>
          <p:grpSp>
            <p:nvGrpSpPr>
              <p:cNvPr id="2019" name="Group 50"/>
              <p:cNvGrpSpPr/>
              <p:nvPr/>
            </p:nvGrpSpPr>
            <p:grpSpPr>
              <a:xfrm>
                <a:off x="2045520" y="3287880"/>
                <a:ext cx="2399400" cy="2255760"/>
                <a:chOff x="2045520" y="3287880"/>
                <a:chExt cx="2399400" cy="2255760"/>
              </a:xfrm>
            </p:grpSpPr>
            <p:sp>
              <p:nvSpPr>
                <p:cNvPr id="2020" name="TextBox 7"/>
                <p:cNvSpPr/>
                <p:nvPr/>
              </p:nvSpPr>
              <p:spPr>
                <a:xfrm>
                  <a:off x="3289680" y="4962240"/>
                  <a:ext cx="38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1" name="Group 19"/>
                <p:cNvGrpSpPr/>
                <p:nvPr/>
              </p:nvGrpSpPr>
              <p:grpSpPr>
                <a:xfrm>
                  <a:off x="2045520" y="3287880"/>
                  <a:ext cx="2399400" cy="1285200"/>
                  <a:chOff x="2045520" y="3287880"/>
                  <a:chExt cx="2399400" cy="1285200"/>
                </a:xfrm>
              </p:grpSpPr>
              <p:sp>
                <p:nvSpPr>
                  <p:cNvPr id="2022" name="TextBox 4"/>
                  <p:cNvSpPr/>
                  <p:nvPr/>
                </p:nvSpPr>
                <p:spPr>
                  <a:xfrm>
                    <a:off x="3094560" y="336204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TextBox 8"/>
                  <p:cNvSpPr/>
                  <p:nvPr/>
                </p:nvSpPr>
                <p:spPr>
                  <a:xfrm>
                    <a:off x="3922200" y="337428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4" name="Group 18"/>
                  <p:cNvGrpSpPr/>
                  <p:nvPr/>
                </p:nvGrpSpPr>
                <p:grpSpPr>
                  <a:xfrm>
                    <a:off x="2045520" y="3287880"/>
                    <a:ext cx="2399400" cy="1285200"/>
                    <a:chOff x="2045520" y="3287880"/>
                    <a:chExt cx="2399400" cy="1285200"/>
                  </a:xfrm>
                </p:grpSpPr>
                <p:sp>
                  <p:nvSpPr>
                    <p:cNvPr id="2025" name="TextBox 5"/>
                    <p:cNvSpPr/>
                    <p:nvPr/>
                  </p:nvSpPr>
                  <p:spPr>
                    <a:xfrm>
                      <a:off x="3264480" y="356760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TextBox 6"/>
                    <p:cNvSpPr/>
                    <p:nvPr/>
                  </p:nvSpPr>
                  <p:spPr>
                    <a:xfrm>
                      <a:off x="2045520" y="39916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TextBox 9"/>
                    <p:cNvSpPr/>
                    <p:nvPr/>
                  </p:nvSpPr>
                  <p:spPr>
                    <a:xfrm>
                      <a:off x="4061520" y="32878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8" name="Straight Connector 30"/>
              <p:cNvSpPr/>
              <p:nvPr/>
            </p:nvSpPr>
            <p:spPr>
              <a:xfrm>
                <a:off x="2431800" y="2552760"/>
                <a:ext cx="760320" cy="1052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31"/>
              <p:cNvSpPr/>
              <p:nvPr/>
            </p:nvSpPr>
            <p:spPr>
              <a:xfrm>
                <a:off x="2549520" y="2378160"/>
                <a:ext cx="1563840" cy="11509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Box 27"/>
              <p:cNvSpPr/>
              <p:nvPr/>
            </p:nvSpPr>
            <p:spPr>
              <a:xfrm>
                <a:off x="1908000" y="2108160"/>
                <a:ext cx="659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i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1" name="Group 73"/>
          <p:cNvGrpSpPr/>
          <p:nvPr/>
        </p:nvGrpSpPr>
        <p:grpSpPr>
          <a:xfrm>
            <a:off x="4932360" y="2490840"/>
            <a:ext cx="950760" cy="3103560"/>
            <a:chOff x="4932360" y="2490840"/>
            <a:chExt cx="950760" cy="3103560"/>
          </a:xfrm>
        </p:grpSpPr>
        <p:sp>
          <p:nvSpPr>
            <p:cNvPr id="2032" name="Freeform 66"/>
            <p:cNvSpPr/>
            <p:nvPr/>
          </p:nvSpPr>
          <p:spPr>
            <a:xfrm>
              <a:off x="5208480" y="24908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67"/>
            <p:cNvSpPr/>
            <p:nvPr/>
          </p:nvSpPr>
          <p:spPr>
            <a:xfrm>
              <a:off x="4932360" y="37022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68"/>
            <p:cNvSpPr/>
            <p:nvPr/>
          </p:nvSpPr>
          <p:spPr>
            <a:xfrm>
              <a:off x="4960800" y="4843440"/>
              <a:ext cx="725400" cy="750960"/>
            </a:xfrm>
            <a:custGeom>
              <a:avLst/>
              <a:gdLst/>
              <a:ahLst/>
              <a:rect l="l" t="t" r="r" b="b"/>
              <a:pathLst>
                <a:path w="725646" h="750162">
                  <a:moveTo>
                    <a:pt x="509450" y="0"/>
                  </a:moveTo>
                  <a:cubicBezTo>
                    <a:pt x="805542" y="375557"/>
                    <a:pt x="738050" y="424541"/>
                    <a:pt x="653142" y="548638"/>
                  </a:cubicBezTo>
                  <a:cubicBezTo>
                    <a:pt x="568234" y="672735"/>
                    <a:pt x="419643" y="775606"/>
                    <a:pt x="0" y="744582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Freeform 69"/>
          <p:cNvSpPr/>
          <p:nvPr/>
        </p:nvSpPr>
        <p:spPr>
          <a:xfrm>
            <a:off x="3556080" y="3952800"/>
            <a:ext cx="587160" cy="67968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6" name="Group 76"/>
          <p:cNvGrpSpPr/>
          <p:nvPr/>
        </p:nvGrpSpPr>
        <p:grpSpPr>
          <a:xfrm>
            <a:off x="1455480" y="3567240"/>
            <a:ext cx="780840" cy="1709640"/>
            <a:chOff x="1455480" y="3567240"/>
            <a:chExt cx="780840" cy="1709640"/>
          </a:xfrm>
        </p:grpSpPr>
        <p:sp>
          <p:nvSpPr>
            <p:cNvPr id="2037" name="Freeform 70"/>
            <p:cNvSpPr/>
            <p:nvPr/>
          </p:nvSpPr>
          <p:spPr>
            <a:xfrm flipH="1">
              <a:off x="1455120" y="459756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71"/>
            <p:cNvSpPr/>
            <p:nvPr/>
          </p:nvSpPr>
          <p:spPr>
            <a:xfrm flipH="1">
              <a:off x="1650240" y="356724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Freeform 72"/>
          <p:cNvSpPr/>
          <p:nvPr/>
        </p:nvSpPr>
        <p:spPr>
          <a:xfrm flipH="1">
            <a:off x="771480" y="5156280"/>
            <a:ext cx="587520" cy="67932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arrow" w="med"/>
            <a:tailEnd len="med" type="arrow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80"/>
          <p:cNvGrpSpPr/>
          <p:nvPr/>
        </p:nvGrpSpPr>
        <p:grpSpPr>
          <a:xfrm>
            <a:off x="3498120" y="1967760"/>
            <a:ext cx="5112360" cy="3350160"/>
            <a:chOff x="3498120" y="1967760"/>
            <a:chExt cx="5112360" cy="3350160"/>
          </a:xfrm>
        </p:grpSpPr>
        <p:sp>
          <p:nvSpPr>
            <p:cNvPr id="2041" name="Freeform 78"/>
            <p:cNvSpPr/>
            <p:nvPr/>
          </p:nvSpPr>
          <p:spPr>
            <a:xfrm rot="19320000">
              <a:off x="3644640" y="2076120"/>
              <a:ext cx="58716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Box 79"/>
            <p:cNvSpPr/>
            <p:nvPr/>
          </p:nvSpPr>
          <p:spPr>
            <a:xfrm>
              <a:off x="6172200" y="46753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e46c0a"/>
                </a:buClr>
                <a:buFont typeface="Calibri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Country to cou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barriers to spill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TextBox 81"/>
          <p:cNvSpPr/>
          <p:nvPr/>
        </p:nvSpPr>
        <p:spPr>
          <a:xfrm>
            <a:off x="338400" y="282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 Monitoring and Reporting S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Group 83"/>
          <p:cNvGrpSpPr/>
          <p:nvPr/>
        </p:nvGrpSpPr>
        <p:grpSpPr>
          <a:xfrm>
            <a:off x="5529240" y="287280"/>
            <a:ext cx="3538440" cy="4443480"/>
            <a:chOff x="5529240" y="287280"/>
            <a:chExt cx="3538440" cy="4443480"/>
          </a:xfrm>
        </p:grpSpPr>
        <p:grpSp>
          <p:nvGrpSpPr>
            <p:cNvPr id="2045" name="Group 77"/>
            <p:cNvGrpSpPr/>
            <p:nvPr/>
          </p:nvGrpSpPr>
          <p:grpSpPr>
            <a:xfrm>
              <a:off x="6019200" y="1742760"/>
              <a:ext cx="3048480" cy="2988000"/>
              <a:chOff x="6019200" y="1742760"/>
              <a:chExt cx="3048480" cy="2988000"/>
            </a:xfrm>
          </p:grpSpPr>
          <p:sp>
            <p:nvSpPr>
              <p:cNvPr id="2046" name="TextBox 74"/>
              <p:cNvSpPr/>
              <p:nvPr/>
            </p:nvSpPr>
            <p:spPr>
              <a:xfrm>
                <a:off x="6019200" y="1742760"/>
                <a:ext cx="289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Fostering Spillover by Desig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TextBox 75"/>
              <p:cNvSpPr/>
              <p:nvPr/>
            </p:nvSpPr>
            <p:spPr>
              <a:xfrm>
                <a:off x="6171480" y="2167920"/>
                <a:ext cx="28962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sites to local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to non-implementation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ub-systems to (sub-)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ystems to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ites to si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TextBox 82"/>
            <p:cNvSpPr/>
            <p:nvPr/>
          </p:nvSpPr>
          <p:spPr>
            <a:xfrm>
              <a:off x="5529240" y="287280"/>
              <a:ext cx="279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alibri"/>
                </a:rPr>
                <a:t>&amp; Spillover Nee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neation and characterization (typologies?) of target farming system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lies on the fusion of spatially-explicit agricultural production, environmental, and farm/household data, and a conceptual model of impact pathways/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Technology/Intervention Inventor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aracterized inventory of the nature of the individual and integrated farming system components whose adoption and impacts is being evaluated. Includes characterization of spillover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sive Modeling of Projected Change (with and w/o interventions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roductivity and income change, land, labour (sex differentiated) and wate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ion assessmen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to the ability to measure and model change in indicators is the need (with additional information/assumptions) to assess attribution of changes to an agreed level of specif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1" name="Group 71"/>
          <p:cNvGrpSpPr/>
          <p:nvPr/>
        </p:nvGrpSpPr>
        <p:grpSpPr>
          <a:xfrm>
            <a:off x="492840" y="4594320"/>
            <a:ext cx="7230960" cy="2165400"/>
            <a:chOff x="492840" y="4594320"/>
            <a:chExt cx="7230960" cy="2165400"/>
          </a:xfrm>
        </p:grpSpPr>
        <p:grpSp>
          <p:nvGrpSpPr>
            <p:cNvPr id="2052" name="Group 63"/>
            <p:cNvGrpSpPr/>
            <p:nvPr/>
          </p:nvGrpSpPr>
          <p:grpSpPr>
            <a:xfrm>
              <a:off x="833760" y="4594320"/>
              <a:ext cx="6814440" cy="2143800"/>
              <a:chOff x="833760" y="4594320"/>
              <a:chExt cx="6814440" cy="2143800"/>
            </a:xfrm>
          </p:grpSpPr>
          <p:grpSp>
            <p:nvGrpSpPr>
              <p:cNvPr id="2053" name="Group 57"/>
              <p:cNvGrpSpPr/>
              <p:nvPr/>
            </p:nvGrpSpPr>
            <p:grpSpPr>
              <a:xfrm>
                <a:off x="833760" y="4594320"/>
                <a:ext cx="6814440" cy="2143800"/>
                <a:chOff x="833760" y="4594320"/>
                <a:chExt cx="6814440" cy="2143800"/>
              </a:xfrm>
            </p:grpSpPr>
            <p:grpSp>
              <p:nvGrpSpPr>
                <p:cNvPr id="2054" name="Group 43"/>
                <p:cNvGrpSpPr/>
                <p:nvPr/>
              </p:nvGrpSpPr>
              <p:grpSpPr>
                <a:xfrm>
                  <a:off x="1612440" y="4877280"/>
                  <a:ext cx="6035760" cy="1434960"/>
                  <a:chOff x="1612440" y="4877280"/>
                  <a:chExt cx="6035760" cy="1434960"/>
                </a:xfrm>
              </p:grpSpPr>
              <p:sp>
                <p:nvSpPr>
                  <p:cNvPr id="2055" name="Freeform 33"/>
                  <p:cNvSpPr/>
                  <p:nvPr/>
                </p:nvSpPr>
                <p:spPr>
                  <a:xfrm>
                    <a:off x="1652040" y="4958280"/>
                    <a:ext cx="5794560" cy="13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580593" y="1141784"/>
                          <a:pt x="817581" y="1025435"/>
                        </a:cubicBezTo>
                        <a:cubicBezTo>
                          <a:pt x="1054569" y="909086"/>
                          <a:pt x="1198072" y="731868"/>
                          <a:pt x="1421930" y="619717"/>
                        </a:cubicBezTo>
                        <a:cubicBezTo>
                          <a:pt x="1645788" y="507566"/>
                          <a:pt x="1919610" y="404673"/>
                          <a:pt x="2160728" y="352531"/>
                        </a:cubicBezTo>
                        <a:cubicBezTo>
                          <a:pt x="2401846" y="300389"/>
                          <a:pt x="2594590" y="348455"/>
                          <a:pt x="2868637" y="306868"/>
                        </a:cubicBezTo>
                        <a:cubicBezTo>
                          <a:pt x="3142684" y="265281"/>
                          <a:pt x="3317168" y="154154"/>
                          <a:pt x="3805009" y="103009"/>
                        </a:cubicBezTo>
                        <a:cubicBezTo>
                          <a:pt x="4292850" y="51864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Straight Connector 34"/>
                  <p:cNvSpPr/>
                  <p:nvPr/>
                </p:nvSpPr>
                <p:spPr>
                  <a:xfrm>
                    <a:off x="5456520" y="5061600"/>
                    <a:ext cx="1990080" cy="12333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Isosceles Triangle 35"/>
                  <p:cNvSpPr/>
                  <p:nvPr/>
                </p:nvSpPr>
                <p:spPr>
                  <a:xfrm>
                    <a:off x="1612440" y="4988520"/>
                    <a:ext cx="5727960" cy="131760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Rectangle 36"/>
                  <p:cNvSpPr/>
                  <p:nvPr/>
                </p:nvSpPr>
                <p:spPr>
                  <a:xfrm>
                    <a:off x="4724640" y="4877280"/>
                    <a:ext cx="2923560" cy="143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Freeform 37"/>
                  <p:cNvSpPr/>
                  <p:nvPr/>
                </p:nvSpPr>
                <p:spPr>
                  <a:xfrm>
                    <a:off x="4712040" y="5123520"/>
                    <a:ext cx="2672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3658" h="108777">
                        <a:moveTo>
                          <a:pt x="0" y="107240"/>
                        </a:moveTo>
                        <a:cubicBezTo>
                          <a:pt x="297410" y="63706"/>
                          <a:pt x="688771" y="14516"/>
                          <a:pt x="996494" y="2780"/>
                        </a:cubicBezTo>
                        <a:cubicBezTo>
                          <a:pt x="1304217" y="-8956"/>
                          <a:pt x="1566811" y="19155"/>
                          <a:pt x="1846338" y="36821"/>
                        </a:cubicBezTo>
                        <a:lnTo>
                          <a:pt x="2673658" y="108777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Straight Connector 38"/>
                  <p:cNvSpPr/>
                  <p:nvPr/>
                </p:nvSpPr>
                <p:spPr>
                  <a:xfrm>
                    <a:off x="1652040" y="6304320"/>
                    <a:ext cx="579456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Straight Connector 47"/>
                <p:cNvSpPr/>
                <p:nvPr/>
              </p:nvSpPr>
              <p:spPr>
                <a:xfrm>
                  <a:off x="833760" y="6314400"/>
                  <a:ext cx="28954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TextBox 52"/>
                <p:cNvSpPr/>
                <p:nvPr/>
              </p:nvSpPr>
              <p:spPr>
                <a:xfrm>
                  <a:off x="4419000" y="636984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Straight Connector 55"/>
                <p:cNvSpPr/>
                <p:nvPr/>
              </p:nvSpPr>
              <p:spPr>
                <a:xfrm>
                  <a:off x="851040" y="4594320"/>
                  <a:ext cx="4680" cy="17456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Straight Connector 62"/>
              <p:cNvSpPr/>
              <p:nvPr/>
            </p:nvSpPr>
            <p:spPr>
              <a:xfrm>
                <a:off x="4741920" y="5005440"/>
                <a:ext cx="0" cy="128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TextBox 66"/>
            <p:cNvSpPr/>
            <p:nvPr/>
          </p:nvSpPr>
          <p:spPr>
            <a:xfrm>
              <a:off x="707976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Box 68"/>
            <p:cNvSpPr/>
            <p:nvPr/>
          </p:nvSpPr>
          <p:spPr>
            <a:xfrm>
              <a:off x="49284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69"/>
          <p:cNvGrpSpPr/>
          <p:nvPr/>
        </p:nvGrpSpPr>
        <p:grpSpPr>
          <a:xfrm>
            <a:off x="542160" y="1036800"/>
            <a:ext cx="7181640" cy="2254320"/>
            <a:chOff x="542160" y="1036800"/>
            <a:chExt cx="7181640" cy="2254320"/>
          </a:xfrm>
        </p:grpSpPr>
        <p:grpSp>
          <p:nvGrpSpPr>
            <p:cNvPr id="2068" name="Group 39"/>
            <p:cNvGrpSpPr/>
            <p:nvPr/>
          </p:nvGrpSpPr>
          <p:grpSpPr>
            <a:xfrm>
              <a:off x="1626840" y="1353960"/>
              <a:ext cx="6036480" cy="1434240"/>
              <a:chOff x="1626840" y="1353960"/>
              <a:chExt cx="6036480" cy="1434240"/>
            </a:xfrm>
          </p:grpSpPr>
          <p:sp>
            <p:nvSpPr>
              <p:cNvPr id="2069" name="Freeform 3"/>
              <p:cNvSpPr/>
              <p:nvPr/>
            </p:nvSpPr>
            <p:spPr>
              <a:xfrm>
                <a:off x="1666440" y="1434960"/>
                <a:ext cx="5795280" cy="1316880"/>
              </a:xfrm>
              <a:custGeom>
                <a:avLst/>
                <a:gdLst/>
                <a:ahLst/>
                <a:rect l="l" t="t" r="r" b="b"/>
                <a:pathLst>
                  <a:path w="5795682" h="1317812">
                    <a:moveTo>
                      <a:pt x="0" y="1317812"/>
                    </a:moveTo>
                    <a:cubicBezTo>
                      <a:pt x="254373" y="1285315"/>
                      <a:pt x="443433" y="1252818"/>
                      <a:pt x="660827" y="1143000"/>
                    </a:cubicBezTo>
                    <a:cubicBezTo>
                      <a:pt x="878221" y="1033182"/>
                      <a:pt x="1015192" y="797182"/>
                      <a:pt x="1304364" y="658906"/>
                    </a:cubicBezTo>
                    <a:cubicBezTo>
                      <a:pt x="1593536" y="520630"/>
                      <a:pt x="1979086" y="405991"/>
                      <a:pt x="2395860" y="313342"/>
                    </a:cubicBezTo>
                    <a:cubicBezTo>
                      <a:pt x="2812634" y="220693"/>
                      <a:pt x="3238372" y="155233"/>
                      <a:pt x="3805009" y="103009"/>
                    </a:cubicBezTo>
                    <a:cubicBezTo>
                      <a:pt x="4371646" y="50785"/>
                      <a:pt x="5132124" y="34336"/>
                      <a:pt x="5795682" y="0"/>
                    </a:cubicBez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9"/>
              <p:cNvSpPr/>
              <p:nvPr/>
            </p:nvSpPr>
            <p:spPr>
              <a:xfrm>
                <a:off x="7461720" y="1434960"/>
                <a:ext cx="0" cy="133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Isosceles Triangle 10"/>
              <p:cNvSpPr/>
              <p:nvPr/>
            </p:nvSpPr>
            <p:spPr>
              <a:xfrm>
                <a:off x="1626840" y="1464840"/>
                <a:ext cx="5728680" cy="1316880"/>
              </a:xfrm>
              <a:prstGeom prst="triangle">
                <a:avLst>
                  <a:gd name="adj" fmla="val 10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25"/>
              <p:cNvSpPr/>
              <p:nvPr/>
            </p:nvSpPr>
            <p:spPr>
              <a:xfrm>
                <a:off x="3395520" y="1353960"/>
                <a:ext cx="4267800" cy="143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"/>
              <p:cNvSpPr/>
              <p:nvPr/>
            </p:nvSpPr>
            <p:spPr>
              <a:xfrm>
                <a:off x="3381120" y="1434960"/>
                <a:ext cx="4031280" cy="493920"/>
              </a:xfrm>
              <a:custGeom>
                <a:avLst/>
                <a:gdLst/>
                <a:ahLst/>
                <a:rect l="l" t="t" r="r" b="b"/>
                <a:pathLst>
                  <a:path w="4032196" h="494852">
                    <a:moveTo>
                      <a:pt x="0" y="494852"/>
                    </a:moveTo>
                    <a:cubicBezTo>
                      <a:pt x="31536" y="477483"/>
                      <a:pt x="354169" y="388491"/>
                      <a:pt x="386506" y="372291"/>
                    </a:cubicBezTo>
                    <a:cubicBezTo>
                      <a:pt x="418843" y="356091"/>
                      <a:pt x="153042" y="407475"/>
                      <a:pt x="194020" y="397650"/>
                    </a:cubicBezTo>
                    <a:cubicBezTo>
                      <a:pt x="234998" y="387825"/>
                      <a:pt x="324457" y="362449"/>
                      <a:pt x="632374" y="313342"/>
                    </a:cubicBezTo>
                    <a:cubicBezTo>
                      <a:pt x="940291" y="264235"/>
                      <a:pt x="1474886" y="155233"/>
                      <a:pt x="2041523" y="103009"/>
                    </a:cubicBezTo>
                    <a:cubicBezTo>
                      <a:pt x="2608160" y="50785"/>
                      <a:pt x="3368638" y="34336"/>
                      <a:pt x="403219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26"/>
              <p:cNvSpPr/>
              <p:nvPr/>
            </p:nvSpPr>
            <p:spPr>
              <a:xfrm>
                <a:off x="1666440" y="2780280"/>
                <a:ext cx="5795280" cy="0"/>
              </a:xfrm>
              <a:prstGeom prst="line">
                <a:avLst/>
              </a:prstGeom>
              <a:ln w="22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5" name="Straight Connector 41"/>
            <p:cNvSpPr/>
            <p:nvPr/>
          </p:nvSpPr>
          <p:spPr>
            <a:xfrm>
              <a:off x="833400" y="1036800"/>
              <a:ext cx="4680" cy="174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Straight Connector 45"/>
            <p:cNvSpPr/>
            <p:nvPr/>
          </p:nvSpPr>
          <p:spPr>
            <a:xfrm>
              <a:off x="838080" y="2789280"/>
              <a:ext cx="2895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TextBox 48"/>
            <p:cNvSpPr/>
            <p:nvPr/>
          </p:nvSpPr>
          <p:spPr>
            <a:xfrm>
              <a:off x="542160" y="2895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Box 49"/>
            <p:cNvSpPr/>
            <p:nvPr/>
          </p:nvSpPr>
          <p:spPr>
            <a:xfrm>
              <a:off x="3085200" y="2922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Straight Connector 59"/>
            <p:cNvSpPr/>
            <p:nvPr/>
          </p:nvSpPr>
          <p:spPr>
            <a:xfrm>
              <a:off x="3378240" y="1465200"/>
              <a:ext cx="0" cy="1287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TextBox 64"/>
            <p:cNvSpPr/>
            <p:nvPr/>
          </p:nvSpPr>
          <p:spPr>
            <a:xfrm>
              <a:off x="7079760" y="290232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70"/>
          <p:cNvGrpSpPr/>
          <p:nvPr/>
        </p:nvGrpSpPr>
        <p:grpSpPr>
          <a:xfrm>
            <a:off x="511920" y="2814480"/>
            <a:ext cx="7211880" cy="2246760"/>
            <a:chOff x="511920" y="2814480"/>
            <a:chExt cx="7211880" cy="2246760"/>
          </a:xfrm>
        </p:grpSpPr>
        <p:grpSp>
          <p:nvGrpSpPr>
            <p:cNvPr id="2082" name="Group 61"/>
            <p:cNvGrpSpPr/>
            <p:nvPr/>
          </p:nvGrpSpPr>
          <p:grpSpPr>
            <a:xfrm>
              <a:off x="834120" y="2814480"/>
              <a:ext cx="6821640" cy="2245320"/>
              <a:chOff x="834120" y="2814480"/>
              <a:chExt cx="6821640" cy="2245320"/>
            </a:xfrm>
          </p:grpSpPr>
          <p:grpSp>
            <p:nvGrpSpPr>
              <p:cNvPr id="2083" name="Group 56"/>
              <p:cNvGrpSpPr/>
              <p:nvPr/>
            </p:nvGrpSpPr>
            <p:grpSpPr>
              <a:xfrm>
                <a:off x="834120" y="2814480"/>
                <a:ext cx="6821640" cy="2245320"/>
                <a:chOff x="834120" y="2814480"/>
                <a:chExt cx="6821640" cy="2245320"/>
              </a:xfrm>
            </p:grpSpPr>
            <p:sp>
              <p:nvSpPr>
                <p:cNvPr id="2084" name="Straight Connector 54"/>
                <p:cNvSpPr/>
                <p:nvPr/>
              </p:nvSpPr>
              <p:spPr>
                <a:xfrm>
                  <a:off x="842040" y="2814480"/>
                  <a:ext cx="4680" cy="174672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5" name="Group 42"/>
                <p:cNvGrpSpPr/>
                <p:nvPr/>
              </p:nvGrpSpPr>
              <p:grpSpPr>
                <a:xfrm>
                  <a:off x="1619280" y="3154320"/>
                  <a:ext cx="6036480" cy="1435680"/>
                  <a:chOff x="1619280" y="3154320"/>
                  <a:chExt cx="6036480" cy="1435680"/>
                </a:xfrm>
              </p:grpSpPr>
              <p:sp>
                <p:nvSpPr>
                  <p:cNvPr id="2086" name="Freeform 27"/>
                  <p:cNvSpPr/>
                  <p:nvPr/>
                </p:nvSpPr>
                <p:spPr>
                  <a:xfrm>
                    <a:off x="1658880" y="3235320"/>
                    <a:ext cx="5795280" cy="131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421662" y="1235400"/>
                          <a:pt x="660827" y="1143000"/>
                        </a:cubicBezTo>
                        <a:cubicBezTo>
                          <a:pt x="899992" y="1050600"/>
                          <a:pt x="1145821" y="901685"/>
                          <a:pt x="1434993" y="763409"/>
                        </a:cubicBezTo>
                        <a:cubicBezTo>
                          <a:pt x="1724165" y="625133"/>
                          <a:pt x="2000857" y="423409"/>
                          <a:pt x="2395860" y="313342"/>
                        </a:cubicBezTo>
                        <a:cubicBezTo>
                          <a:pt x="2790863" y="203275"/>
                          <a:pt x="3238372" y="155233"/>
                          <a:pt x="3805009" y="103009"/>
                        </a:cubicBezTo>
                        <a:cubicBezTo>
                          <a:pt x="4371646" y="50785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Straight Connector 28"/>
                  <p:cNvSpPr/>
                  <p:nvPr/>
                </p:nvSpPr>
                <p:spPr>
                  <a:xfrm>
                    <a:off x="7454160" y="3235320"/>
                    <a:ext cx="0" cy="133740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Isosceles Triangle 29"/>
                  <p:cNvSpPr/>
                  <p:nvPr/>
                </p:nvSpPr>
                <p:spPr>
                  <a:xfrm>
                    <a:off x="1619280" y="3265200"/>
                    <a:ext cx="5728680" cy="131832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Rectangle 30"/>
                  <p:cNvSpPr/>
                  <p:nvPr/>
                </p:nvSpPr>
                <p:spPr>
                  <a:xfrm>
                    <a:off x="3936240" y="3154320"/>
                    <a:ext cx="3719520" cy="143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Freeform 31"/>
                  <p:cNvSpPr/>
                  <p:nvPr/>
                </p:nvSpPr>
                <p:spPr>
                  <a:xfrm>
                    <a:off x="3987000" y="3235320"/>
                    <a:ext cx="36608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18241" h="311972">
                        <a:moveTo>
                          <a:pt x="0" y="311972"/>
                        </a:moveTo>
                        <a:cubicBezTo>
                          <a:pt x="40421" y="291722"/>
                          <a:pt x="321852" y="236534"/>
                          <a:pt x="559780" y="201707"/>
                        </a:cubicBezTo>
                        <a:cubicBezTo>
                          <a:pt x="797708" y="166880"/>
                          <a:pt x="951158" y="136627"/>
                          <a:pt x="1427568" y="103009"/>
                        </a:cubicBezTo>
                        <a:cubicBezTo>
                          <a:pt x="1903978" y="69391"/>
                          <a:pt x="2754683" y="34336"/>
                          <a:pt x="341824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Straight Connector 32"/>
                  <p:cNvSpPr/>
                  <p:nvPr/>
                </p:nvSpPr>
                <p:spPr>
                  <a:xfrm>
                    <a:off x="1658880" y="4582080"/>
                    <a:ext cx="579528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2" name="Straight Connector 46"/>
                <p:cNvSpPr/>
                <p:nvPr/>
              </p:nvSpPr>
              <p:spPr>
                <a:xfrm>
                  <a:off x="834120" y="4589640"/>
                  <a:ext cx="289440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TextBox 51"/>
                <p:cNvSpPr/>
                <p:nvPr/>
              </p:nvSpPr>
              <p:spPr>
                <a:xfrm>
                  <a:off x="3564360" y="469152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Straight Connector 60"/>
              <p:cNvSpPr/>
              <p:nvPr/>
            </p:nvSpPr>
            <p:spPr>
              <a:xfrm>
                <a:off x="3949560" y="3292200"/>
                <a:ext cx="0" cy="1289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TextBox 67"/>
            <p:cNvSpPr/>
            <p:nvPr/>
          </p:nvSpPr>
          <p:spPr>
            <a:xfrm>
              <a:off x="511920" y="46832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Box 65"/>
            <p:cNvSpPr/>
            <p:nvPr/>
          </p:nvSpPr>
          <p:spPr>
            <a:xfrm>
              <a:off x="7079760" y="469296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TextBox 72"/>
          <p:cNvSpPr/>
          <p:nvPr/>
        </p:nvSpPr>
        <p:spPr>
          <a:xfrm>
            <a:off x="1102680" y="34308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nual Evaluation of Past and Projected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Box 73"/>
          <p:cNvSpPr/>
          <p:nvPr/>
        </p:nvSpPr>
        <p:spPr>
          <a:xfrm>
            <a:off x="838080" y="10368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rease in productivity or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. Daily Temperature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0" name="Content Placeholder 8" descr="temperatur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0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0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0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4" name="Straight Connector 6"/>
              <p:cNvCxnSpPr>
                <a:stCxn id="210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0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Box 2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nfall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0" name="Content Placeholder 8" descr="prep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1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1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1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4" name="Straight Connector 6"/>
              <p:cNvCxnSpPr>
                <a:stCxn id="211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Box 11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an 2001-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0" name="Content Placeholder 8" descr="NDVI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2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2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2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4" name="Straight Connector 6"/>
              <p:cNvCxnSpPr>
                <a:stCxn id="212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2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9" name="Content Placeholder 8" descr="NDVI_std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31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32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3" name="Straight Connector 6"/>
              <p:cNvCxnSpPr>
                <a:stCxn id="2132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34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D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8" name="Content Placeholder 8" descr="popden_africover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4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4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2" name="Straight Connector 6"/>
              <p:cNvCxnSpPr>
                <a:stCxn id="214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Box 2"/>
          <p:cNvSpPr/>
          <p:nvPr/>
        </p:nvSpPr>
        <p:spPr>
          <a:xfrm>
            <a:off x="464040" y="6440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Pop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ime to Towns &gt;50K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8" name="Content Placeholder 13" descr="traveltim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4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5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5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2" name="Straight Connector 6"/>
              <p:cNvCxnSpPr>
                <a:stCxn id="215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5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TextBox 8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Box 2"/>
          <p:cNvSpPr/>
          <p:nvPr/>
        </p:nvSpPr>
        <p:spPr>
          <a:xfrm>
            <a:off x="302760" y="647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vestChoi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761760" y="1371600"/>
            <a:ext cx="835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M&amp;E Guiding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on SI Program Targ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Reporting Sc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amp;E Data and Analys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land Int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8" name="Content Placeholder 14" descr="Cropland density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59" name="Group 12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6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61" name="TextBox 4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2" name="Straight Connector 6"/>
              <p:cNvCxnSpPr>
                <a:stCxn id="216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63" name="Straight Connector 10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TextBox 2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Box 3"/>
          <p:cNvSpPr/>
          <p:nvPr/>
        </p:nvSpPr>
        <p:spPr>
          <a:xfrm>
            <a:off x="334080" y="64562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ankutty et a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 Enterprise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8" name="Picture 4" descr="maize.png"/>
          <p:cNvPicPr/>
          <p:nvPr/>
        </p:nvPicPr>
        <p:blipFill>
          <a:blip r:embed="rId1"/>
          <a:stretch/>
        </p:blipFill>
        <p:spPr>
          <a:xfrm>
            <a:off x="1231920" y="1676520"/>
            <a:ext cx="2825640" cy="365760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rice.png"/>
          <p:cNvPicPr/>
          <p:nvPr/>
        </p:nvPicPr>
        <p:blipFill>
          <a:blip r:embed="rId2"/>
          <a:stretch/>
        </p:blipFill>
        <p:spPr>
          <a:xfrm>
            <a:off x="3998880" y="1676520"/>
            <a:ext cx="2616120" cy="36576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2" descr=""/>
          <p:cNvPicPr/>
          <p:nvPr/>
        </p:nvPicPr>
        <p:blipFill>
          <a:blip r:embed="rId3"/>
          <a:srcRect l="0" t="8532" r="0" b="0"/>
          <a:stretch/>
        </p:blipFill>
        <p:spPr>
          <a:xfrm>
            <a:off x="-457200" y="236232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3" descr="sorghum.png"/>
          <p:cNvPicPr/>
          <p:nvPr/>
        </p:nvPicPr>
        <p:blipFill>
          <a:blip r:embed="rId4"/>
          <a:stretch/>
        </p:blipFill>
        <p:spPr>
          <a:xfrm>
            <a:off x="6602400" y="1676520"/>
            <a:ext cx="2541600" cy="3657600"/>
          </a:xfrm>
          <a:prstGeom prst="rect">
            <a:avLst/>
          </a:prstGeom>
          <a:ln w="0">
            <a:noFill/>
          </a:ln>
        </p:spPr>
      </p:pic>
      <p:sp>
        <p:nvSpPr>
          <p:cNvPr id="2172" name="TextBox 7"/>
          <p:cNvSpPr/>
          <p:nvPr/>
        </p:nvSpPr>
        <p:spPr>
          <a:xfrm>
            <a:off x="1646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z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8"/>
          <p:cNvSpPr/>
          <p:nvPr/>
        </p:nvSpPr>
        <p:spPr>
          <a:xfrm>
            <a:off x="4273560" y="542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c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Box 9"/>
          <p:cNvSpPr/>
          <p:nvPr/>
        </p:nvSpPr>
        <p:spPr>
          <a:xfrm>
            <a:off x="6602400" y="54100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ghum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Box 2"/>
          <p:cNvSpPr/>
          <p:nvPr/>
        </p:nvSpPr>
        <p:spPr>
          <a:xfrm>
            <a:off x="205920" y="185904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TextBox 6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Content Placeholder 3" descr="cattlepng.png"/>
          <p:cNvPicPr/>
          <p:nvPr/>
        </p:nvPicPr>
        <p:blipFill>
          <a:blip r:embed="rId1"/>
          <a:stretch/>
        </p:blipFill>
        <p:spPr>
          <a:xfrm>
            <a:off x="3124080" y="2057400"/>
            <a:ext cx="2826000" cy="36576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2"/>
          <a:srcRect l="20613" t="14233" r="20409" b="0"/>
          <a:stretch/>
        </p:blipFill>
        <p:spPr>
          <a:xfrm>
            <a:off x="380880" y="2819520"/>
            <a:ext cx="2311560" cy="1569960"/>
          </a:xfrm>
          <a:prstGeom prst="rect">
            <a:avLst/>
          </a:prstGeom>
          <a:ln w="0">
            <a:noFill/>
          </a:ln>
        </p:spPr>
      </p:pic>
      <p:sp>
        <p:nvSpPr>
          <p:cNvPr id="2179" name="TextBox 5"/>
          <p:cNvSpPr/>
          <p:nvPr/>
        </p:nvSpPr>
        <p:spPr>
          <a:xfrm>
            <a:off x="3135240" y="5715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useholds Owning C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Household Enterprise Choices (cont.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Box 7"/>
          <p:cNvSpPr/>
          <p:nvPr/>
        </p:nvSpPr>
        <p:spPr>
          <a:xfrm>
            <a:off x="695160" y="23223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Box 8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3" name=""/>
          <p:cNvGraphicFramePr/>
          <p:nvPr/>
        </p:nvGraphicFramePr>
        <p:xfrm>
          <a:off x="152280" y="1905120"/>
          <a:ext cx="8686800" cy="3124080"/>
        </p:xfrm>
        <a:graphic>
          <a:graphicData uri="http://schemas.openxmlformats.org/drawingml/2006/table">
            <a:tbl>
              <a:tblPr/>
              <a:tblGrid>
                <a:gridCol w="513000"/>
                <a:gridCol w="2090520"/>
                <a:gridCol w="577800"/>
                <a:gridCol w="73080"/>
                <a:gridCol w="2081160"/>
                <a:gridCol w="586080"/>
                <a:gridCol w="61920"/>
                <a:gridCol w="2079360"/>
                <a:gridCol w="623880"/>
              </a:tblGrid>
              <a:tr h="3632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Reg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Focus Distri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king of HH Crop Enterprises: Gh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380880" y="5257800"/>
          <a:ext cx="7772400" cy="838080"/>
        </p:xfrm>
        <a:graphic>
          <a:graphicData uri="http://schemas.openxmlformats.org/drawingml/2006/table">
            <a:tbl>
              <a:tblPr/>
              <a:tblGrid>
                <a:gridCol w="747720"/>
                <a:gridCol w="3044880"/>
                <a:gridCol w="841320"/>
                <a:gridCol w="106560"/>
                <a:gridCol w="3031920"/>
              </a:tblGrid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GLSS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 considered are maize, rice, millet, cassava, cocoa, cocoyam, beans, eggplant, sorghum, yam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lpalm, okra, oranges, pawpaw, pepper, pineapples, plantain, tomatoes, 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6" name="Picture 3" descr=""/>
          <p:cNvPicPr/>
          <p:nvPr/>
        </p:nvPicPr>
        <p:blipFill>
          <a:blip r:embed="rId1"/>
          <a:stretch/>
        </p:blipFill>
        <p:spPr>
          <a:xfrm>
            <a:off x="406440" y="380880"/>
            <a:ext cx="83566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7" name="Diagram 10" descr=""/>
          <p:cNvPicPr/>
          <p:nvPr/>
        </p:nvPicPr>
        <p:blipFill>
          <a:blip r:embed="rId1"/>
          <a:stretch/>
        </p:blipFill>
        <p:spPr>
          <a:xfrm>
            <a:off x="12600" y="920880"/>
            <a:ext cx="3522600" cy="2535120"/>
          </a:xfrm>
          <a:prstGeom prst="rect">
            <a:avLst/>
          </a:prstGeom>
          <a:ln w="0">
            <a:noFill/>
          </a:ln>
        </p:spPr>
      </p:pic>
      <p:pic>
        <p:nvPicPr>
          <p:cNvPr id="2188" name="Diagram 8" descr=""/>
          <p:cNvPicPr/>
          <p:nvPr/>
        </p:nvPicPr>
        <p:blipFill>
          <a:blip r:embed="rId2"/>
          <a:stretch/>
        </p:blipFill>
        <p:spPr>
          <a:xfrm>
            <a:off x="285840" y="3925800"/>
            <a:ext cx="2963880" cy="186552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" descr="D:\Documents and Settings\JKOO\Desktop\Downloads\iStock\iStock_000005155468Illustra\thumbnail.jpg"/>
          <p:cNvPicPr/>
          <p:nvPr/>
        </p:nvPicPr>
        <p:blipFill>
          <a:blip r:embed="rId3"/>
          <a:stretch/>
        </p:blipFill>
        <p:spPr>
          <a:xfrm>
            <a:off x="2857680" y="1219320"/>
            <a:ext cx="2008080" cy="3805200"/>
          </a:xfrm>
          <a:prstGeom prst="rect">
            <a:avLst/>
          </a:prstGeom>
          <a:ln w="0">
            <a:noFill/>
          </a:ln>
        </p:spPr>
      </p:pic>
      <p:grpSp>
        <p:nvGrpSpPr>
          <p:cNvPr id="2190" name="Group 38"/>
          <p:cNvGrpSpPr/>
          <p:nvPr/>
        </p:nvGrpSpPr>
        <p:grpSpPr>
          <a:xfrm>
            <a:off x="4644720" y="2959200"/>
            <a:ext cx="2202120" cy="3927240"/>
            <a:chOff x="4644720" y="2959200"/>
            <a:chExt cx="2202120" cy="3927240"/>
          </a:xfrm>
        </p:grpSpPr>
        <p:pic>
          <p:nvPicPr>
            <p:cNvPr id="2191" name="Diagram 6" descr=""/>
            <p:cNvPicPr/>
            <p:nvPr/>
          </p:nvPicPr>
          <p:blipFill>
            <a:blip r:embed="rId4"/>
            <a:stretch/>
          </p:blipFill>
          <p:spPr>
            <a:xfrm>
              <a:off x="4734360" y="4471200"/>
              <a:ext cx="2112480" cy="24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Picture 5" descr="D:\Documents and Settings\JKOO\Local Settings\Temporary Internet Files\Content.IE5\VAIP9G55\MCj02802970000[1].wmf"/>
            <p:cNvPicPr/>
            <p:nvPr/>
          </p:nvPicPr>
          <p:blipFill>
            <a:blip r:embed="rId5">
              <a:lum bright="10000"/>
            </a:blip>
            <a:stretch/>
          </p:blipFill>
          <p:spPr>
            <a:xfrm flipH="1">
              <a:off x="4644720" y="2959200"/>
              <a:ext cx="1168200" cy="157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Diagram 7" descr=""/>
          <p:cNvPicPr/>
          <p:nvPr/>
        </p:nvPicPr>
        <p:blipFill>
          <a:blip r:embed="rId6"/>
          <a:stretch/>
        </p:blipFill>
        <p:spPr>
          <a:xfrm>
            <a:off x="2846520" y="5048280"/>
            <a:ext cx="1950840" cy="180972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29"/>
          <p:cNvSpPr/>
          <p:nvPr/>
        </p:nvSpPr>
        <p:spPr>
          <a:xfrm>
            <a:off x="6199200" y="210960"/>
            <a:ext cx="2489040" cy="37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0"/>
          <p:cNvSpPr/>
          <p:nvPr/>
        </p:nvSpPr>
        <p:spPr>
          <a:xfrm>
            <a:off x="6351480" y="363600"/>
            <a:ext cx="2489400" cy="373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1"/>
          <p:cNvSpPr/>
          <p:nvPr/>
        </p:nvSpPr>
        <p:spPr>
          <a:xfrm>
            <a:off x="6504120" y="515880"/>
            <a:ext cx="2489040" cy="382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"/>
          <p:cNvGraphicFramePr/>
          <p:nvPr/>
        </p:nvGraphicFramePr>
        <p:xfrm>
          <a:off x="6593040" y="1409760"/>
          <a:ext cx="2361960" cy="285732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PUTS/INDIC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ering d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maturity d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es/stov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iomass 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, biomass, L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, C and 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bal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198" name="Group 18"/>
          <p:cNvGrpSpPr/>
          <p:nvPr/>
        </p:nvGrpSpPr>
        <p:grpSpPr>
          <a:xfrm>
            <a:off x="6613560" y="609480"/>
            <a:ext cx="2260440" cy="825480"/>
            <a:chOff x="6613560" y="609480"/>
            <a:chExt cx="2260440" cy="825480"/>
          </a:xfrm>
        </p:grpSpPr>
        <p:pic>
          <p:nvPicPr>
            <p:cNvPr id="2199" name="Picture 3" descr=""/>
            <p:cNvPicPr/>
            <p:nvPr/>
          </p:nvPicPr>
          <p:blipFill>
            <a:blip r:embed="rId7"/>
            <a:stretch/>
          </p:blipFill>
          <p:spPr>
            <a:xfrm>
              <a:off x="6613560" y="615240"/>
              <a:ext cx="1133280" cy="8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Picture 49" descr="mz_2000.png"/>
            <p:cNvPicPr/>
            <p:nvPr/>
          </p:nvPicPr>
          <p:blipFill>
            <a:blip r:embed="rId8"/>
            <a:stretch/>
          </p:blipFill>
          <p:spPr>
            <a:xfrm>
              <a:off x="7731360" y="609480"/>
              <a:ext cx="114264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1" name="Rectangle 2"/>
          <p:cNvSpPr/>
          <p:nvPr/>
        </p:nvSpPr>
        <p:spPr>
          <a:xfrm>
            <a:off x="304920" y="328680"/>
            <a:ext cx="598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Cropping System Models as Mea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Tracking &amp; Forecast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Indicat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Box 17"/>
          <p:cNvSpPr/>
          <p:nvPr/>
        </p:nvSpPr>
        <p:spPr>
          <a:xfrm>
            <a:off x="240120" y="655020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Jawoo Koo (HarvestChoice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3" name="Picture 5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8997840" cy="4648320"/>
          </a:xfrm>
          <a:prstGeom prst="rect">
            <a:avLst/>
          </a:prstGeom>
          <a:ln w="0">
            <a:noFill/>
          </a:ln>
        </p:spPr>
      </p:pic>
      <p:sp>
        <p:nvSpPr>
          <p:cNvPr id="2204" name="TextBox 1"/>
          <p:cNvSpPr/>
          <p:nvPr/>
        </p:nvSpPr>
        <p:spPr>
          <a:xfrm>
            <a:off x="457200" y="252360"/>
            <a:ext cx="839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Responses by Region, Soil Response Class &amp; Management Intervention for Representative OPV and Hybrid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2206" name="TextBox 3"/>
          <p:cNvSpPr/>
          <p:nvPr/>
        </p:nvSpPr>
        <p:spPr>
          <a:xfrm>
            <a:off x="457200" y="252360"/>
            <a:ext cx="83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&amp;E Implementation Strategy (to d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 Core FtF Monitoring Obligation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with USAID Washington (e.g., agree required core indicators and reporting time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M&amp;E Coordinato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PRI to recruit SI M&amp;E Coordinator (Senior International Research position, likely based in Addis) with junior staff support in addition to DC-based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Implementation Allianc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Establish M&amp;E community (esp. evaluation methods and tools) to finalize project M&amp;E design, as well as guide, participate in and review M&amp;E work plans and deliverables (composition, e.g., M&amp;E specialist/liaison from involved CG centers, donor and national and regional part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Open-Access, Web-Based Platform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 host and make accessible SI M&amp;E plans, documents, and annual reports, as well as background publications, underlying datasets and, wherever possible, analytical tools. Promote and apply standards for farming system, technology and impact characteriz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M&amp;E Technical Me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igned with proposed Project-wide Annual meeting (Need for cross-site planning and review meetings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appropriate split of M&amp;E resources between M &amp; 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ope of donor’s minimum indicator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management versus strategic M&amp;E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s of implementation partners versus M&amp;E team in collecting/analysing indicator da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need to re-examine the rationale for specific focus sites and sub-syste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will join the M&amp;E Alliance/commu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y likely candidates for M&amp;E Coordinat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overall FtF core indicator guid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nd sub-system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. rice, maize, sorghum-based for 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SI syste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 the 3 “sites” (Sudano-Sahelian zone, Ethiopian Highlands, Eastern and Southern Afr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ward &amp; forward assessmen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 ante evaluations (projections) of key M&amp;E indicators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-up and out assessments (evaluate spillover potential/ options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amine the potential productivity and sustainability consequences of a range of adoption and geographic/system spillover pathways beyond actual implementation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2685960" y="5719680"/>
          <a:ext cx="6181920" cy="768600"/>
        </p:xfrm>
        <a:graphic>
          <a:graphicData uri="http://schemas.openxmlformats.org/drawingml/2006/table">
            <a:tbl>
              <a:tblPr/>
              <a:tblGrid>
                <a:gridCol w="870120"/>
                <a:gridCol w="711000"/>
                <a:gridCol w="741600"/>
                <a:gridCol w="1101600"/>
                <a:gridCol w="1733400"/>
                <a:gridCol w="102420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H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ttrib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Urban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com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Ex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roduc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puts, Tech Ad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3" name="Group 50"/>
          <p:cNvGrpSpPr/>
          <p:nvPr/>
        </p:nvGrpSpPr>
        <p:grpSpPr>
          <a:xfrm>
            <a:off x="611640" y="739800"/>
            <a:ext cx="8150040" cy="2430720"/>
            <a:chOff x="611640" y="739800"/>
            <a:chExt cx="8150040" cy="2430720"/>
          </a:xfrm>
        </p:grpSpPr>
        <p:grpSp>
          <p:nvGrpSpPr>
            <p:cNvPr id="1654" name="Group 51"/>
            <p:cNvGrpSpPr/>
            <p:nvPr/>
          </p:nvGrpSpPr>
          <p:grpSpPr>
            <a:xfrm>
              <a:off x="611640" y="739800"/>
              <a:ext cx="8150040" cy="2430720"/>
              <a:chOff x="611640" y="739800"/>
              <a:chExt cx="8150040" cy="2430720"/>
            </a:xfrm>
          </p:grpSpPr>
          <p:sp>
            <p:nvSpPr>
              <p:cNvPr id="1655" name="Text Box 52"/>
              <p:cNvSpPr/>
              <p:nvPr/>
            </p:nvSpPr>
            <p:spPr>
              <a:xfrm>
                <a:off x="611640" y="1623960"/>
                <a:ext cx="3434400" cy="10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Policy/Market Context &amp; Impa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ually geo-political/admin units (policie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stitutions) as the unifying concept an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object of analysi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Verdana"/>
                  </a:rPr>
                  <a:t>Commodity foc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6" name="Group 53"/>
              <p:cNvGrpSpPr/>
              <p:nvPr/>
            </p:nvGrpSpPr>
            <p:grpSpPr>
              <a:xfrm>
                <a:off x="4008600" y="739800"/>
                <a:ext cx="4753080" cy="2430720"/>
                <a:chOff x="4008600" y="739800"/>
                <a:chExt cx="4753080" cy="2430720"/>
              </a:xfrm>
            </p:grpSpPr>
            <p:grpSp>
              <p:nvGrpSpPr>
                <p:cNvPr id="1657" name="Group 54"/>
                <p:cNvGrpSpPr/>
                <p:nvPr/>
              </p:nvGrpSpPr>
              <p:grpSpPr>
                <a:xfrm>
                  <a:off x="4008600" y="739800"/>
                  <a:ext cx="2549880" cy="2430720"/>
                  <a:chOff x="4008600" y="739800"/>
                  <a:chExt cx="2549880" cy="2430720"/>
                </a:xfrm>
              </p:grpSpPr>
              <p:sp>
                <p:nvSpPr>
                  <p:cNvPr id="1658" name="Text Box 55"/>
                  <p:cNvSpPr/>
                  <p:nvPr/>
                </p:nvSpPr>
                <p:spPr>
                  <a:xfrm>
                    <a:off x="4332240" y="739800"/>
                    <a:ext cx="1904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Fix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Geographies of Analysi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59" name="Picture 5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008600" y="1108080"/>
                    <a:ext cx="25498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0" name="Text Box 57"/>
                  <p:cNvSpPr/>
                  <p:nvPr/>
                </p:nvSpPr>
                <p:spPr>
                  <a:xfrm>
                    <a:off x="4580640" y="2772000"/>
                    <a:ext cx="14259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e.g., IMPACT/WATER,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GTAP &amp; derivativ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1" name="Text Box 58"/>
                <p:cNvSpPr/>
                <p:nvPr/>
              </p:nvSpPr>
              <p:spPr>
                <a:xfrm>
                  <a:off x="6535080" y="739800"/>
                  <a:ext cx="1904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lexibl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Geographies of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Text Box 59"/>
                <p:cNvSpPr/>
                <p:nvPr/>
              </p:nvSpPr>
              <p:spPr>
                <a:xfrm>
                  <a:off x="7029360" y="2771640"/>
                  <a:ext cx="9352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e.g., DREAM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MM 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3" name="Group 60"/>
                <p:cNvGrpSpPr/>
                <p:nvPr/>
              </p:nvGrpSpPr>
              <p:grpSpPr>
                <a:xfrm>
                  <a:off x="6211800" y="1108080"/>
                  <a:ext cx="2549880" cy="1754280"/>
                  <a:chOff x="6211800" y="1108080"/>
                  <a:chExt cx="2549880" cy="1754280"/>
                </a:xfrm>
              </p:grpSpPr>
              <p:sp>
                <p:nvSpPr>
                  <p:cNvPr id="1664" name="AutoShape 61"/>
                  <p:cNvSpPr/>
                  <p:nvPr/>
                </p:nvSpPr>
                <p:spPr>
                  <a:xfrm>
                    <a:off x="6211800" y="1108080"/>
                    <a:ext cx="2549880" cy="175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65" name="Group 62"/>
                  <p:cNvGrpSpPr/>
                  <p:nvPr/>
                </p:nvGrpSpPr>
                <p:grpSpPr>
                  <a:xfrm>
                    <a:off x="6683760" y="1266840"/>
                    <a:ext cx="1636200" cy="1400040"/>
                    <a:chOff x="6683760" y="1266840"/>
                    <a:chExt cx="1636200" cy="1400040"/>
                  </a:xfrm>
                </p:grpSpPr>
                <p:sp>
                  <p:nvSpPr>
                    <p:cNvPr id="1666" name="Freeform 63"/>
                    <p:cNvSpPr/>
                    <p:nvPr/>
                  </p:nvSpPr>
                  <p:spPr>
                    <a:xfrm>
                      <a:off x="6683760" y="1266840"/>
                      <a:ext cx="708120" cy="1101600"/>
                    </a:xfrm>
                    <a:custGeom>
                      <a:avLst/>
                      <a:gdLst>
                        <a:gd name="textAreaLeft" fmla="*/ 0 w 708120"/>
                        <a:gd name="textAreaRight" fmla="*/ 708480 w 708120"/>
                        <a:gd name="textAreaTop" fmla="*/ 0 h 1101600"/>
                        <a:gd name="textAreaBottom" fmla="*/ 1101960 h 1101600"/>
                      </a:gdLst>
                      <a:ahLst/>
                      <a:rect l="textAreaLeft" t="textAreaTop" r="textAreaRight" b="textAreaBottom"/>
                      <a:pathLst>
                        <a:path w="414" h="694">
                          <a:moveTo>
                            <a:pt x="414" y="175"/>
                          </a:moveTo>
                          <a:lnTo>
                            <a:pt x="345" y="214"/>
                          </a:lnTo>
                          <a:lnTo>
                            <a:pt x="351" y="313"/>
                          </a:lnTo>
                          <a:lnTo>
                            <a:pt x="351" y="322"/>
                          </a:lnTo>
                          <a:lnTo>
                            <a:pt x="344" y="335"/>
                          </a:lnTo>
                          <a:lnTo>
                            <a:pt x="340" y="340"/>
                          </a:lnTo>
                          <a:lnTo>
                            <a:pt x="334" y="335"/>
                          </a:lnTo>
                          <a:lnTo>
                            <a:pt x="328" y="335"/>
                          </a:lnTo>
                          <a:lnTo>
                            <a:pt x="322" y="340"/>
                          </a:lnTo>
                          <a:lnTo>
                            <a:pt x="320" y="355"/>
                          </a:lnTo>
                          <a:lnTo>
                            <a:pt x="317" y="368"/>
                          </a:lnTo>
                          <a:lnTo>
                            <a:pt x="311" y="387"/>
                          </a:lnTo>
                          <a:lnTo>
                            <a:pt x="310" y="392"/>
                          </a:lnTo>
                          <a:lnTo>
                            <a:pt x="305" y="407"/>
                          </a:lnTo>
                          <a:lnTo>
                            <a:pt x="301" y="416"/>
                          </a:lnTo>
                          <a:lnTo>
                            <a:pt x="289" y="423"/>
                          </a:lnTo>
                          <a:lnTo>
                            <a:pt x="283" y="435"/>
                          </a:lnTo>
                          <a:lnTo>
                            <a:pt x="280" y="455"/>
                          </a:lnTo>
                          <a:lnTo>
                            <a:pt x="278" y="473"/>
                          </a:lnTo>
                          <a:lnTo>
                            <a:pt x="284" y="500"/>
                          </a:lnTo>
                          <a:lnTo>
                            <a:pt x="286" y="516"/>
                          </a:lnTo>
                          <a:lnTo>
                            <a:pt x="278" y="538"/>
                          </a:lnTo>
                          <a:lnTo>
                            <a:pt x="268" y="555"/>
                          </a:lnTo>
                          <a:lnTo>
                            <a:pt x="253" y="570"/>
                          </a:lnTo>
                          <a:lnTo>
                            <a:pt x="242" y="582"/>
                          </a:lnTo>
                          <a:lnTo>
                            <a:pt x="238" y="609"/>
                          </a:lnTo>
                          <a:lnTo>
                            <a:pt x="236" y="630"/>
                          </a:lnTo>
                          <a:lnTo>
                            <a:pt x="239" y="646"/>
                          </a:lnTo>
                          <a:lnTo>
                            <a:pt x="242" y="661"/>
                          </a:lnTo>
                          <a:lnTo>
                            <a:pt x="244" y="673"/>
                          </a:lnTo>
                          <a:lnTo>
                            <a:pt x="244" y="679"/>
                          </a:lnTo>
                          <a:lnTo>
                            <a:pt x="233" y="688"/>
                          </a:lnTo>
                          <a:lnTo>
                            <a:pt x="224" y="694"/>
                          </a:lnTo>
                          <a:lnTo>
                            <a:pt x="221" y="684"/>
                          </a:lnTo>
                          <a:lnTo>
                            <a:pt x="214" y="673"/>
                          </a:lnTo>
                          <a:lnTo>
                            <a:pt x="204" y="667"/>
                          </a:lnTo>
                          <a:lnTo>
                            <a:pt x="195" y="663"/>
                          </a:lnTo>
                          <a:lnTo>
                            <a:pt x="187" y="667"/>
                          </a:lnTo>
                          <a:lnTo>
                            <a:pt x="174" y="669"/>
                          </a:lnTo>
                          <a:lnTo>
                            <a:pt x="168" y="664"/>
                          </a:lnTo>
                          <a:lnTo>
                            <a:pt x="163" y="651"/>
                          </a:lnTo>
                          <a:lnTo>
                            <a:pt x="162" y="640"/>
                          </a:lnTo>
                          <a:lnTo>
                            <a:pt x="153" y="633"/>
                          </a:lnTo>
                          <a:lnTo>
                            <a:pt x="145" y="624"/>
                          </a:lnTo>
                          <a:lnTo>
                            <a:pt x="138" y="613"/>
                          </a:lnTo>
                          <a:lnTo>
                            <a:pt x="129" y="607"/>
                          </a:lnTo>
                          <a:lnTo>
                            <a:pt x="118" y="604"/>
                          </a:lnTo>
                          <a:lnTo>
                            <a:pt x="106" y="594"/>
                          </a:lnTo>
                          <a:lnTo>
                            <a:pt x="95" y="592"/>
                          </a:lnTo>
                          <a:lnTo>
                            <a:pt x="81" y="594"/>
                          </a:lnTo>
                          <a:lnTo>
                            <a:pt x="69" y="594"/>
                          </a:lnTo>
                          <a:lnTo>
                            <a:pt x="56" y="595"/>
                          </a:lnTo>
                          <a:lnTo>
                            <a:pt x="41" y="591"/>
                          </a:lnTo>
                          <a:lnTo>
                            <a:pt x="30" y="585"/>
                          </a:lnTo>
                          <a:lnTo>
                            <a:pt x="15" y="577"/>
                          </a:lnTo>
                          <a:lnTo>
                            <a:pt x="8" y="574"/>
                          </a:lnTo>
                          <a:lnTo>
                            <a:pt x="0" y="570"/>
                          </a:lnTo>
                          <a:lnTo>
                            <a:pt x="5" y="562"/>
                          </a:lnTo>
                          <a:lnTo>
                            <a:pt x="63" y="488"/>
                          </a:lnTo>
                          <a:lnTo>
                            <a:pt x="62" y="370"/>
                          </a:lnTo>
                          <a:lnTo>
                            <a:pt x="75" y="353"/>
                          </a:lnTo>
                          <a:lnTo>
                            <a:pt x="120" y="346"/>
                          </a:lnTo>
                          <a:lnTo>
                            <a:pt x="139" y="233"/>
                          </a:lnTo>
                          <a:lnTo>
                            <a:pt x="148" y="227"/>
                          </a:lnTo>
                          <a:lnTo>
                            <a:pt x="144" y="112"/>
                          </a:lnTo>
                          <a:lnTo>
                            <a:pt x="114" y="70"/>
                          </a:lnTo>
                          <a:lnTo>
                            <a:pt x="142" y="36"/>
                          </a:lnTo>
                          <a:lnTo>
                            <a:pt x="147" y="0"/>
                          </a:lnTo>
                          <a:lnTo>
                            <a:pt x="184" y="38"/>
                          </a:lnTo>
                          <a:lnTo>
                            <a:pt x="210" y="61"/>
                          </a:lnTo>
                          <a:lnTo>
                            <a:pt x="224" y="78"/>
                          </a:lnTo>
                          <a:lnTo>
                            <a:pt x="245" y="88"/>
                          </a:lnTo>
                          <a:lnTo>
                            <a:pt x="265" y="100"/>
                          </a:lnTo>
                          <a:lnTo>
                            <a:pt x="275" y="112"/>
                          </a:lnTo>
                          <a:lnTo>
                            <a:pt x="316" y="163"/>
                          </a:lnTo>
                          <a:lnTo>
                            <a:pt x="363" y="160"/>
                          </a:lnTo>
                          <a:lnTo>
                            <a:pt x="414" y="175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7" name="Line 64"/>
                    <p:cNvSpPr/>
                    <p:nvPr/>
                  </p:nvSpPr>
                  <p:spPr>
                    <a:xfrm flipH="1">
                      <a:off x="7374240" y="15447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65"/>
                    <p:cNvSpPr/>
                    <p:nvPr/>
                  </p:nvSpPr>
                  <p:spPr>
                    <a:xfrm flipH="1">
                      <a:off x="7338240" y="15634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Line 66"/>
                    <p:cNvSpPr/>
                    <p:nvPr/>
                  </p:nvSpPr>
                  <p:spPr>
                    <a:xfrm flipH="1">
                      <a:off x="7302600" y="158256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Freeform 67"/>
                    <p:cNvSpPr/>
                    <p:nvPr/>
                  </p:nvSpPr>
                  <p:spPr>
                    <a:xfrm>
                      <a:off x="7273800" y="1601640"/>
                      <a:ext cx="10080" cy="1440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6" y="0"/>
                          </a:moveTo>
                          <a:lnTo>
                            <a:pt x="0" y="3"/>
                          </a:lnTo>
                          <a:lnTo>
                            <a:pt x="2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Line 68"/>
                    <p:cNvSpPr/>
                    <p:nvPr/>
                  </p:nvSpPr>
                  <p:spPr>
                    <a:xfrm>
                      <a:off x="7277040" y="163512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Line 69"/>
                    <p:cNvSpPr/>
                    <p:nvPr/>
                  </p:nvSpPr>
                  <p:spPr>
                    <a:xfrm>
                      <a:off x="7278840" y="167328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Line 70"/>
                    <p:cNvSpPr/>
                    <p:nvPr/>
                  </p:nvSpPr>
                  <p:spPr>
                    <a:xfrm>
                      <a:off x="7282440" y="17114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Freeform 71"/>
                    <p:cNvSpPr/>
                    <p:nvPr/>
                  </p:nvSpPr>
                  <p:spPr>
                    <a:xfrm>
                      <a:off x="7283880" y="174924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Freeform 72"/>
                    <p:cNvSpPr/>
                    <p:nvPr/>
                  </p:nvSpPr>
                  <p:spPr>
                    <a:xfrm>
                      <a:off x="7270200" y="178740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Freeform 73"/>
                    <p:cNvSpPr/>
                    <p:nvPr/>
                  </p:nvSpPr>
                  <p:spPr>
                    <a:xfrm>
                      <a:off x="7234200" y="179856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0"/>
                          </a:moveTo>
                          <a:lnTo>
                            <a:pt x="6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74"/>
                    <p:cNvSpPr/>
                    <p:nvPr/>
                  </p:nvSpPr>
                  <p:spPr>
                    <a:xfrm>
                      <a:off x="7229160" y="182556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75"/>
                    <p:cNvSpPr/>
                    <p:nvPr/>
                  </p:nvSpPr>
                  <p:spPr>
                    <a:xfrm flipH="1">
                      <a:off x="7215120" y="1861920"/>
                      <a:ext cx="82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Freeform 76"/>
                    <p:cNvSpPr/>
                    <p:nvPr/>
                  </p:nvSpPr>
                  <p:spPr>
                    <a:xfrm>
                      <a:off x="7203600" y="1898640"/>
                      <a:ext cx="6480" cy="1908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Freeform 77"/>
                    <p:cNvSpPr/>
                    <p:nvPr/>
                  </p:nvSpPr>
                  <p:spPr>
                    <a:xfrm>
                      <a:off x="7174440" y="1931760"/>
                      <a:ext cx="15120" cy="111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2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78"/>
                    <p:cNvSpPr/>
                    <p:nvPr/>
                  </p:nvSpPr>
                  <p:spPr>
                    <a:xfrm flipH="1">
                      <a:off x="7163640" y="19605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Line 79"/>
                    <p:cNvSpPr/>
                    <p:nvPr/>
                  </p:nvSpPr>
                  <p:spPr>
                    <a:xfrm flipH="1">
                      <a:off x="7158600" y="19987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Line 80"/>
                    <p:cNvSpPr/>
                    <p:nvPr/>
                  </p:nvSpPr>
                  <p:spPr>
                    <a:xfrm>
                      <a:off x="7164000" y="2036880"/>
                      <a:ext cx="540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81"/>
                    <p:cNvSpPr/>
                    <p:nvPr/>
                  </p:nvSpPr>
                  <p:spPr>
                    <a:xfrm>
                      <a:off x="7172640" y="2071800"/>
                      <a:ext cx="3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Freeform 82"/>
                    <p:cNvSpPr/>
                    <p:nvPr/>
                  </p:nvSpPr>
                  <p:spPr>
                    <a:xfrm>
                      <a:off x="7157520" y="210960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4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Freeform 83"/>
                    <p:cNvSpPr/>
                    <p:nvPr/>
                  </p:nvSpPr>
                  <p:spPr>
                    <a:xfrm>
                      <a:off x="7131960" y="214308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6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Freeform 84"/>
                    <p:cNvSpPr/>
                    <p:nvPr/>
                  </p:nvSpPr>
                  <p:spPr>
                    <a:xfrm>
                      <a:off x="7102800" y="217152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8" y="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Line 85"/>
                    <p:cNvSpPr/>
                    <p:nvPr/>
                  </p:nvSpPr>
                  <p:spPr>
                    <a:xfrm flipH="1">
                      <a:off x="7092000" y="22017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Line 86"/>
                    <p:cNvSpPr/>
                    <p:nvPr/>
                  </p:nvSpPr>
                  <p:spPr>
                    <a:xfrm flipH="1">
                      <a:off x="7086960" y="22399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0" name="Freeform 87"/>
                    <p:cNvSpPr/>
                    <p:nvPr/>
                  </p:nvSpPr>
                  <p:spPr>
                    <a:xfrm>
                      <a:off x="7090920" y="2278080"/>
                      <a:ext cx="1440" cy="172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1" h="11">
                          <a:moveTo>
                            <a:pt x="0" y="0"/>
                          </a:moveTo>
                          <a:lnTo>
                            <a:pt x="1" y="9"/>
                          </a:lnTo>
                          <a:lnTo>
                            <a:pt x="1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Freeform 88"/>
                    <p:cNvSpPr/>
                    <p:nvPr/>
                  </p:nvSpPr>
                  <p:spPr>
                    <a:xfrm>
                      <a:off x="7097400" y="23144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Freeform 89"/>
                    <p:cNvSpPr/>
                    <p:nvPr/>
                  </p:nvSpPr>
                  <p:spPr>
                    <a:xfrm>
                      <a:off x="7076880" y="2349360"/>
                      <a:ext cx="15480" cy="111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3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Freeform 90"/>
                    <p:cNvSpPr/>
                    <p:nvPr/>
                  </p:nvSpPr>
                  <p:spPr>
                    <a:xfrm>
                      <a:off x="7054560" y="2343240"/>
                      <a:ext cx="10440" cy="1728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6" y="11"/>
                          </a:moveTo>
                          <a:lnTo>
                            <a:pt x="4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91"/>
                    <p:cNvSpPr/>
                    <p:nvPr/>
                  </p:nvSpPr>
                  <p:spPr>
                    <a:xfrm>
                      <a:off x="7023960" y="2320920"/>
                      <a:ext cx="18360" cy="93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92"/>
                    <p:cNvSpPr/>
                    <p:nvPr/>
                  </p:nvSpPr>
                  <p:spPr>
                    <a:xfrm>
                      <a:off x="6982920" y="23241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0"/>
                          </a:moveTo>
                          <a:lnTo>
                            <a:pt x="12" y="1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93"/>
                    <p:cNvSpPr/>
                    <p:nvPr/>
                  </p:nvSpPr>
                  <p:spPr>
                    <a:xfrm>
                      <a:off x="6962400" y="2300400"/>
                      <a:ext cx="5040" cy="158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94"/>
                    <p:cNvSpPr/>
                    <p:nvPr/>
                  </p:nvSpPr>
                  <p:spPr>
                    <a:xfrm>
                      <a:off x="6941880" y="2266920"/>
                      <a:ext cx="15480" cy="144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95"/>
                    <p:cNvSpPr/>
                    <p:nvPr/>
                  </p:nvSpPr>
                  <p:spPr>
                    <a:xfrm>
                      <a:off x="6916320" y="2238480"/>
                      <a:ext cx="13320" cy="140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8" y="9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96"/>
                    <p:cNvSpPr/>
                    <p:nvPr/>
                  </p:nvSpPr>
                  <p:spPr>
                    <a:xfrm>
                      <a:off x="6880320" y="222084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Line 97"/>
                    <p:cNvSpPr/>
                    <p:nvPr/>
                  </p:nvSpPr>
                  <p:spPr>
                    <a:xfrm flipH="1" flipV="1">
                      <a:off x="6846120" y="2206080"/>
                      <a:ext cx="18720" cy="32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98"/>
                    <p:cNvSpPr/>
                    <p:nvPr/>
                  </p:nvSpPr>
                  <p:spPr>
                    <a:xfrm>
                      <a:off x="6805080" y="220968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99"/>
                    <p:cNvSpPr/>
                    <p:nvPr/>
                  </p:nvSpPr>
                  <p:spPr>
                    <a:xfrm>
                      <a:off x="6763680" y="2206440"/>
                      <a:ext cx="20520" cy="50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3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100"/>
                    <p:cNvSpPr/>
                    <p:nvPr/>
                  </p:nvSpPr>
                  <p:spPr>
                    <a:xfrm>
                      <a:off x="6728040" y="2190600"/>
                      <a:ext cx="16920" cy="97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0" y="6"/>
                          </a:moveTo>
                          <a:lnTo>
                            <a:pt x="4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101"/>
                    <p:cNvSpPr/>
                    <p:nvPr/>
                  </p:nvSpPr>
                  <p:spPr>
                    <a:xfrm>
                      <a:off x="6688800" y="2173320"/>
                      <a:ext cx="20520" cy="93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2" h="6">
                          <a:moveTo>
                            <a:pt x="12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102"/>
                    <p:cNvSpPr/>
                    <p:nvPr/>
                  </p:nvSpPr>
                  <p:spPr>
                    <a:xfrm>
                      <a:off x="6692040" y="2144520"/>
                      <a:ext cx="11880" cy="176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7" h="11">
                          <a:moveTo>
                            <a:pt x="0" y="11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Line 103"/>
                    <p:cNvSpPr/>
                    <p:nvPr/>
                  </p:nvSpPr>
                  <p:spPr>
                    <a:xfrm flipV="1">
                      <a:off x="6717600" y="2114640"/>
                      <a:ext cx="118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Line 104"/>
                    <p:cNvSpPr/>
                    <p:nvPr/>
                  </p:nvSpPr>
                  <p:spPr>
                    <a:xfrm flipV="1">
                      <a:off x="6743520" y="2085840"/>
                      <a:ext cx="115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105"/>
                    <p:cNvSpPr/>
                    <p:nvPr/>
                  </p:nvSpPr>
                  <p:spPr>
                    <a:xfrm flipV="1">
                      <a:off x="6765840" y="205560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106"/>
                    <p:cNvSpPr/>
                    <p:nvPr/>
                  </p:nvSpPr>
                  <p:spPr>
                    <a:xfrm flipV="1">
                      <a:off x="6791400" y="20188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Line 107"/>
                    <p:cNvSpPr/>
                    <p:nvPr/>
                  </p:nvSpPr>
                  <p:spPr>
                    <a:xfrm flipV="1">
                      <a:off x="6791400" y="19807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Line 108"/>
                    <p:cNvSpPr/>
                    <p:nvPr/>
                  </p:nvSpPr>
                  <p:spPr>
                    <a:xfrm flipV="1">
                      <a:off x="6789960" y="194256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Line 109"/>
                    <p:cNvSpPr/>
                    <p:nvPr/>
                  </p:nvSpPr>
                  <p:spPr>
                    <a:xfrm flipV="1">
                      <a:off x="6789960" y="1905120"/>
                      <a:ext cx="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3" name="Line 110"/>
                    <p:cNvSpPr/>
                    <p:nvPr/>
                  </p:nvSpPr>
                  <p:spPr>
                    <a:xfrm flipV="1">
                      <a:off x="6789960" y="18666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Line 111"/>
                    <p:cNvSpPr/>
                    <p:nvPr/>
                  </p:nvSpPr>
                  <p:spPr>
                    <a:xfrm flipV="1">
                      <a:off x="6791400" y="18349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112"/>
                    <p:cNvSpPr/>
                    <p:nvPr/>
                  </p:nvSpPr>
                  <p:spPr>
                    <a:xfrm flipV="1">
                      <a:off x="6822000" y="18219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Line 113"/>
                    <p:cNvSpPr/>
                    <p:nvPr/>
                  </p:nvSpPr>
                  <p:spPr>
                    <a:xfrm flipV="1">
                      <a:off x="6863040" y="18158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Line 114"/>
                    <p:cNvSpPr/>
                    <p:nvPr/>
                  </p:nvSpPr>
                  <p:spPr>
                    <a:xfrm flipV="1">
                      <a:off x="6890760" y="1782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Line 115"/>
                    <p:cNvSpPr/>
                    <p:nvPr/>
                  </p:nvSpPr>
                  <p:spPr>
                    <a:xfrm flipV="1">
                      <a:off x="6895800" y="17442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Line 116"/>
                    <p:cNvSpPr/>
                    <p:nvPr/>
                  </p:nvSpPr>
                  <p:spPr>
                    <a:xfrm flipV="1">
                      <a:off x="6904080" y="170604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Line 117"/>
                    <p:cNvSpPr/>
                    <p:nvPr/>
                  </p:nvSpPr>
                  <p:spPr>
                    <a:xfrm flipV="1">
                      <a:off x="6911280" y="1670040"/>
                      <a:ext cx="28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Freeform 118"/>
                    <p:cNvSpPr/>
                    <p:nvPr/>
                  </p:nvSpPr>
                  <p:spPr>
                    <a:xfrm>
                      <a:off x="6919920" y="163512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1" y="1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Line 119"/>
                    <p:cNvSpPr/>
                    <p:nvPr/>
                  </p:nvSpPr>
                  <p:spPr>
                    <a:xfrm flipV="1">
                      <a:off x="6936840" y="1601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Line 120"/>
                    <p:cNvSpPr/>
                    <p:nvPr/>
                  </p:nvSpPr>
                  <p:spPr>
                    <a:xfrm flipV="1">
                      <a:off x="6935040" y="15631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Line 121"/>
                    <p:cNvSpPr/>
                    <p:nvPr/>
                  </p:nvSpPr>
                  <p:spPr>
                    <a:xfrm flipV="1">
                      <a:off x="6935040" y="15253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5" name="Line 122"/>
                    <p:cNvSpPr/>
                    <p:nvPr/>
                  </p:nvSpPr>
                  <p:spPr>
                    <a:xfrm flipV="1">
                      <a:off x="6931800" y="1487520"/>
                      <a:ext cx="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Line 123"/>
                    <p:cNvSpPr/>
                    <p:nvPr/>
                  </p:nvSpPr>
                  <p:spPr>
                    <a:xfrm flipV="1">
                      <a:off x="6931800" y="1447560"/>
                      <a:ext cx="0" cy="205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Line 124"/>
                    <p:cNvSpPr/>
                    <p:nvPr/>
                  </p:nvSpPr>
                  <p:spPr>
                    <a:xfrm flipH="1" flipV="1">
                      <a:off x="6908760" y="1415520"/>
                      <a:ext cx="118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Line 125"/>
                    <p:cNvSpPr/>
                    <p:nvPr/>
                  </p:nvSpPr>
                  <p:spPr>
                    <a:xfrm flipH="1" flipV="1">
                      <a:off x="6885720" y="13860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Line 126"/>
                    <p:cNvSpPr/>
                    <p:nvPr/>
                  </p:nvSpPr>
                  <p:spPr>
                    <a:xfrm flipV="1">
                      <a:off x="6885720" y="1355760"/>
                      <a:ext cx="1332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0" name="Line 127"/>
                    <p:cNvSpPr/>
                    <p:nvPr/>
                  </p:nvSpPr>
                  <p:spPr>
                    <a:xfrm flipV="1">
                      <a:off x="6911280" y="132696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Line 128"/>
                    <p:cNvSpPr/>
                    <p:nvPr/>
                  </p:nvSpPr>
                  <p:spPr>
                    <a:xfrm flipV="1">
                      <a:off x="6930000" y="1289160"/>
                      <a:ext cx="180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129"/>
                    <p:cNvSpPr/>
                    <p:nvPr/>
                  </p:nvSpPr>
                  <p:spPr>
                    <a:xfrm>
                      <a:off x="6931800" y="1266840"/>
                      <a:ext cx="15120" cy="126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Line 130"/>
                    <p:cNvSpPr/>
                    <p:nvPr/>
                  </p:nvSpPr>
                  <p:spPr>
                    <a:xfrm>
                      <a:off x="6960960" y="1293840"/>
                      <a:ext cx="1512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Freeform 131"/>
                    <p:cNvSpPr/>
                    <p:nvPr/>
                  </p:nvSpPr>
                  <p:spPr>
                    <a:xfrm>
                      <a:off x="6991560" y="1319040"/>
                      <a:ext cx="15480" cy="129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5" name="Line 132"/>
                    <p:cNvSpPr/>
                    <p:nvPr/>
                  </p:nvSpPr>
                  <p:spPr>
                    <a:xfrm>
                      <a:off x="7022160" y="13460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Line 133"/>
                    <p:cNvSpPr/>
                    <p:nvPr/>
                  </p:nvSpPr>
                  <p:spPr>
                    <a:xfrm>
                      <a:off x="7049520" y="13716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Line 134"/>
                    <p:cNvSpPr/>
                    <p:nvPr/>
                  </p:nvSpPr>
                  <p:spPr>
                    <a:xfrm>
                      <a:off x="7080480" y="13953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Line 135"/>
                    <p:cNvSpPr/>
                    <p:nvPr/>
                  </p:nvSpPr>
                  <p:spPr>
                    <a:xfrm>
                      <a:off x="7116480" y="141444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Freeform 136"/>
                    <p:cNvSpPr/>
                    <p:nvPr/>
                  </p:nvSpPr>
                  <p:spPr>
                    <a:xfrm>
                      <a:off x="7148880" y="1438200"/>
                      <a:ext cx="13320" cy="14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0" y="0"/>
                          </a:moveTo>
                          <a:lnTo>
                            <a:pt x="3" y="4"/>
                          </a:lnTo>
                          <a:lnTo>
                            <a:pt x="8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0" name="Line 137"/>
                    <p:cNvSpPr/>
                    <p:nvPr/>
                  </p:nvSpPr>
                  <p:spPr>
                    <a:xfrm>
                      <a:off x="7174440" y="146844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Line 138"/>
                    <p:cNvSpPr/>
                    <p:nvPr/>
                  </p:nvSpPr>
                  <p:spPr>
                    <a:xfrm>
                      <a:off x="7200000" y="1496880"/>
                      <a:ext cx="1332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Line 139"/>
                    <p:cNvSpPr/>
                    <p:nvPr/>
                  </p:nvSpPr>
                  <p:spPr>
                    <a:xfrm>
                      <a:off x="7225560" y="1525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Line 140"/>
                    <p:cNvSpPr/>
                    <p:nvPr/>
                  </p:nvSpPr>
                  <p:spPr>
                    <a:xfrm>
                      <a:off x="7266960" y="15238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4" name="Line 141"/>
                    <p:cNvSpPr/>
                    <p:nvPr/>
                  </p:nvSpPr>
                  <p:spPr>
                    <a:xfrm>
                      <a:off x="7308000" y="1520640"/>
                      <a:ext cx="20520" cy="79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5" name="Line 142"/>
                    <p:cNvSpPr/>
                    <p:nvPr/>
                  </p:nvSpPr>
                  <p:spPr>
                    <a:xfrm>
                      <a:off x="7345440" y="15336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Line 143"/>
                    <p:cNvSpPr/>
                    <p:nvPr/>
                  </p:nvSpPr>
                  <p:spPr>
                    <a:xfrm>
                      <a:off x="7386840" y="1544760"/>
                      <a:ext cx="504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Freeform 144"/>
                    <p:cNvSpPr/>
                    <p:nvPr/>
                  </p:nvSpPr>
                  <p:spPr>
                    <a:xfrm>
                      <a:off x="7451280" y="1449360"/>
                      <a:ext cx="868680" cy="1217520"/>
                    </a:xfrm>
                    <a:custGeom>
                      <a:avLst/>
                      <a:gdLst>
                        <a:gd name="textAreaLeft" fmla="*/ 0 w 868680"/>
                        <a:gd name="textAreaRight" fmla="*/ 869040 w 868680"/>
                        <a:gd name="textAreaTop" fmla="*/ 0 h 1217520"/>
                        <a:gd name="textAreaBottom" fmla="*/ 1217880 h 1217520"/>
                      </a:gdLst>
                      <a:ahLst/>
                      <a:rect l="textAreaLeft" t="textAreaTop" r="textAreaRight" b="textAreaBottom"/>
                      <a:pathLst>
                        <a:path w="508" h="767">
                          <a:moveTo>
                            <a:pt x="260" y="33"/>
                          </a:moveTo>
                          <a:lnTo>
                            <a:pt x="261" y="41"/>
                          </a:lnTo>
                          <a:lnTo>
                            <a:pt x="264" y="51"/>
                          </a:lnTo>
                          <a:lnTo>
                            <a:pt x="267" y="66"/>
                          </a:lnTo>
                          <a:lnTo>
                            <a:pt x="269" y="77"/>
                          </a:lnTo>
                          <a:lnTo>
                            <a:pt x="270" y="81"/>
                          </a:lnTo>
                          <a:lnTo>
                            <a:pt x="273" y="95"/>
                          </a:lnTo>
                          <a:lnTo>
                            <a:pt x="279" y="108"/>
                          </a:lnTo>
                          <a:lnTo>
                            <a:pt x="291" y="117"/>
                          </a:lnTo>
                          <a:lnTo>
                            <a:pt x="297" y="123"/>
                          </a:lnTo>
                          <a:lnTo>
                            <a:pt x="301" y="132"/>
                          </a:lnTo>
                          <a:lnTo>
                            <a:pt x="306" y="138"/>
                          </a:lnTo>
                          <a:lnTo>
                            <a:pt x="309" y="141"/>
                          </a:lnTo>
                          <a:lnTo>
                            <a:pt x="319" y="148"/>
                          </a:lnTo>
                          <a:lnTo>
                            <a:pt x="330" y="157"/>
                          </a:lnTo>
                          <a:lnTo>
                            <a:pt x="325" y="280"/>
                          </a:lnTo>
                          <a:lnTo>
                            <a:pt x="333" y="284"/>
                          </a:lnTo>
                          <a:lnTo>
                            <a:pt x="340" y="289"/>
                          </a:lnTo>
                          <a:lnTo>
                            <a:pt x="343" y="293"/>
                          </a:lnTo>
                          <a:lnTo>
                            <a:pt x="348" y="304"/>
                          </a:lnTo>
                          <a:lnTo>
                            <a:pt x="349" y="310"/>
                          </a:lnTo>
                          <a:lnTo>
                            <a:pt x="357" y="308"/>
                          </a:lnTo>
                          <a:lnTo>
                            <a:pt x="366" y="310"/>
                          </a:lnTo>
                          <a:lnTo>
                            <a:pt x="376" y="308"/>
                          </a:lnTo>
                          <a:lnTo>
                            <a:pt x="388" y="307"/>
                          </a:lnTo>
                          <a:lnTo>
                            <a:pt x="395" y="311"/>
                          </a:lnTo>
                          <a:lnTo>
                            <a:pt x="400" y="319"/>
                          </a:lnTo>
                          <a:lnTo>
                            <a:pt x="407" y="328"/>
                          </a:lnTo>
                          <a:lnTo>
                            <a:pt x="416" y="329"/>
                          </a:lnTo>
                          <a:lnTo>
                            <a:pt x="427" y="326"/>
                          </a:lnTo>
                          <a:lnTo>
                            <a:pt x="434" y="322"/>
                          </a:lnTo>
                          <a:lnTo>
                            <a:pt x="442" y="319"/>
                          </a:lnTo>
                          <a:lnTo>
                            <a:pt x="451" y="320"/>
                          </a:lnTo>
                          <a:lnTo>
                            <a:pt x="455" y="325"/>
                          </a:lnTo>
                          <a:lnTo>
                            <a:pt x="458" y="329"/>
                          </a:lnTo>
                          <a:lnTo>
                            <a:pt x="460" y="340"/>
                          </a:lnTo>
                          <a:lnTo>
                            <a:pt x="461" y="352"/>
                          </a:lnTo>
                          <a:lnTo>
                            <a:pt x="454" y="361"/>
                          </a:lnTo>
                          <a:lnTo>
                            <a:pt x="443" y="368"/>
                          </a:lnTo>
                          <a:lnTo>
                            <a:pt x="437" y="377"/>
                          </a:lnTo>
                          <a:lnTo>
                            <a:pt x="437" y="386"/>
                          </a:lnTo>
                          <a:lnTo>
                            <a:pt x="436" y="403"/>
                          </a:lnTo>
                          <a:lnTo>
                            <a:pt x="436" y="410"/>
                          </a:lnTo>
                          <a:lnTo>
                            <a:pt x="439" y="416"/>
                          </a:lnTo>
                          <a:lnTo>
                            <a:pt x="443" y="429"/>
                          </a:lnTo>
                          <a:lnTo>
                            <a:pt x="449" y="438"/>
                          </a:lnTo>
                          <a:lnTo>
                            <a:pt x="458" y="441"/>
                          </a:lnTo>
                          <a:lnTo>
                            <a:pt x="467" y="438"/>
                          </a:lnTo>
                          <a:lnTo>
                            <a:pt x="476" y="443"/>
                          </a:lnTo>
                          <a:lnTo>
                            <a:pt x="487" y="444"/>
                          </a:lnTo>
                          <a:lnTo>
                            <a:pt x="499" y="446"/>
                          </a:lnTo>
                          <a:lnTo>
                            <a:pt x="505" y="446"/>
                          </a:lnTo>
                          <a:lnTo>
                            <a:pt x="508" y="447"/>
                          </a:lnTo>
                          <a:lnTo>
                            <a:pt x="508" y="452"/>
                          </a:lnTo>
                          <a:lnTo>
                            <a:pt x="505" y="458"/>
                          </a:lnTo>
                          <a:lnTo>
                            <a:pt x="502" y="467"/>
                          </a:lnTo>
                          <a:lnTo>
                            <a:pt x="494" y="476"/>
                          </a:lnTo>
                          <a:lnTo>
                            <a:pt x="491" y="485"/>
                          </a:lnTo>
                          <a:lnTo>
                            <a:pt x="485" y="497"/>
                          </a:lnTo>
                          <a:lnTo>
                            <a:pt x="473" y="497"/>
                          </a:lnTo>
                          <a:lnTo>
                            <a:pt x="460" y="498"/>
                          </a:lnTo>
                          <a:lnTo>
                            <a:pt x="449" y="512"/>
                          </a:lnTo>
                          <a:lnTo>
                            <a:pt x="449" y="527"/>
                          </a:lnTo>
                          <a:lnTo>
                            <a:pt x="449" y="539"/>
                          </a:lnTo>
                          <a:lnTo>
                            <a:pt x="451" y="545"/>
                          </a:lnTo>
                          <a:lnTo>
                            <a:pt x="454" y="564"/>
                          </a:lnTo>
                          <a:lnTo>
                            <a:pt x="454" y="588"/>
                          </a:lnTo>
                          <a:lnTo>
                            <a:pt x="454" y="613"/>
                          </a:lnTo>
                          <a:lnTo>
                            <a:pt x="455" y="637"/>
                          </a:lnTo>
                          <a:lnTo>
                            <a:pt x="452" y="645"/>
                          </a:lnTo>
                          <a:lnTo>
                            <a:pt x="440" y="654"/>
                          </a:lnTo>
                          <a:lnTo>
                            <a:pt x="421" y="649"/>
                          </a:lnTo>
                          <a:lnTo>
                            <a:pt x="388" y="649"/>
                          </a:lnTo>
                          <a:lnTo>
                            <a:pt x="369" y="645"/>
                          </a:lnTo>
                          <a:lnTo>
                            <a:pt x="364" y="642"/>
                          </a:lnTo>
                          <a:lnTo>
                            <a:pt x="339" y="630"/>
                          </a:lnTo>
                          <a:lnTo>
                            <a:pt x="316" y="621"/>
                          </a:lnTo>
                          <a:lnTo>
                            <a:pt x="289" y="633"/>
                          </a:lnTo>
                          <a:lnTo>
                            <a:pt x="285" y="636"/>
                          </a:lnTo>
                          <a:lnTo>
                            <a:pt x="270" y="657"/>
                          </a:lnTo>
                          <a:lnTo>
                            <a:pt x="267" y="682"/>
                          </a:lnTo>
                          <a:lnTo>
                            <a:pt x="267" y="690"/>
                          </a:lnTo>
                          <a:lnTo>
                            <a:pt x="273" y="715"/>
                          </a:lnTo>
                          <a:lnTo>
                            <a:pt x="279" y="739"/>
                          </a:lnTo>
                          <a:lnTo>
                            <a:pt x="271" y="752"/>
                          </a:lnTo>
                          <a:lnTo>
                            <a:pt x="267" y="767"/>
                          </a:lnTo>
                          <a:lnTo>
                            <a:pt x="254" y="758"/>
                          </a:lnTo>
                          <a:lnTo>
                            <a:pt x="243" y="751"/>
                          </a:lnTo>
                          <a:lnTo>
                            <a:pt x="231" y="752"/>
                          </a:lnTo>
                          <a:lnTo>
                            <a:pt x="212" y="757"/>
                          </a:lnTo>
                          <a:lnTo>
                            <a:pt x="200" y="748"/>
                          </a:lnTo>
                          <a:lnTo>
                            <a:pt x="195" y="752"/>
                          </a:lnTo>
                          <a:lnTo>
                            <a:pt x="188" y="754"/>
                          </a:lnTo>
                          <a:lnTo>
                            <a:pt x="177" y="751"/>
                          </a:lnTo>
                          <a:lnTo>
                            <a:pt x="162" y="746"/>
                          </a:lnTo>
                          <a:lnTo>
                            <a:pt x="146" y="739"/>
                          </a:lnTo>
                          <a:lnTo>
                            <a:pt x="134" y="737"/>
                          </a:lnTo>
                          <a:lnTo>
                            <a:pt x="130" y="737"/>
                          </a:lnTo>
                          <a:lnTo>
                            <a:pt x="109" y="743"/>
                          </a:lnTo>
                          <a:lnTo>
                            <a:pt x="89" y="739"/>
                          </a:lnTo>
                          <a:lnTo>
                            <a:pt x="79" y="739"/>
                          </a:lnTo>
                          <a:lnTo>
                            <a:pt x="61" y="743"/>
                          </a:lnTo>
                          <a:lnTo>
                            <a:pt x="46" y="742"/>
                          </a:lnTo>
                          <a:lnTo>
                            <a:pt x="25" y="742"/>
                          </a:lnTo>
                          <a:lnTo>
                            <a:pt x="1" y="737"/>
                          </a:lnTo>
                          <a:lnTo>
                            <a:pt x="0" y="730"/>
                          </a:lnTo>
                          <a:lnTo>
                            <a:pt x="3" y="724"/>
                          </a:lnTo>
                          <a:lnTo>
                            <a:pt x="94" y="618"/>
                          </a:lnTo>
                          <a:lnTo>
                            <a:pt x="94" y="536"/>
                          </a:lnTo>
                          <a:lnTo>
                            <a:pt x="71" y="518"/>
                          </a:lnTo>
                          <a:lnTo>
                            <a:pt x="44" y="497"/>
                          </a:lnTo>
                          <a:lnTo>
                            <a:pt x="40" y="479"/>
                          </a:lnTo>
                          <a:lnTo>
                            <a:pt x="40" y="461"/>
                          </a:lnTo>
                          <a:lnTo>
                            <a:pt x="44" y="438"/>
                          </a:lnTo>
                          <a:lnTo>
                            <a:pt x="62" y="413"/>
                          </a:lnTo>
                          <a:lnTo>
                            <a:pt x="82" y="386"/>
                          </a:lnTo>
                          <a:lnTo>
                            <a:pt x="79" y="364"/>
                          </a:lnTo>
                          <a:lnTo>
                            <a:pt x="88" y="350"/>
                          </a:lnTo>
                          <a:lnTo>
                            <a:pt x="103" y="332"/>
                          </a:lnTo>
                          <a:lnTo>
                            <a:pt x="116" y="316"/>
                          </a:lnTo>
                          <a:lnTo>
                            <a:pt x="121" y="301"/>
                          </a:lnTo>
                          <a:lnTo>
                            <a:pt x="128" y="284"/>
                          </a:lnTo>
                          <a:lnTo>
                            <a:pt x="125" y="271"/>
                          </a:lnTo>
                          <a:lnTo>
                            <a:pt x="136" y="253"/>
                          </a:lnTo>
                          <a:lnTo>
                            <a:pt x="159" y="231"/>
                          </a:lnTo>
                          <a:lnTo>
                            <a:pt x="124" y="205"/>
                          </a:lnTo>
                          <a:lnTo>
                            <a:pt x="104" y="207"/>
                          </a:lnTo>
                          <a:lnTo>
                            <a:pt x="89" y="184"/>
                          </a:lnTo>
                          <a:lnTo>
                            <a:pt x="122" y="115"/>
                          </a:lnTo>
                          <a:lnTo>
                            <a:pt x="109" y="81"/>
                          </a:lnTo>
                          <a:lnTo>
                            <a:pt x="103" y="60"/>
                          </a:lnTo>
                          <a:lnTo>
                            <a:pt x="106" y="59"/>
                          </a:lnTo>
                          <a:lnTo>
                            <a:pt x="119" y="56"/>
                          </a:lnTo>
                          <a:lnTo>
                            <a:pt x="121" y="51"/>
                          </a:lnTo>
                          <a:lnTo>
                            <a:pt x="127" y="3"/>
                          </a:lnTo>
                          <a:lnTo>
                            <a:pt x="133" y="2"/>
                          </a:lnTo>
                          <a:lnTo>
                            <a:pt x="146" y="0"/>
                          </a:lnTo>
                          <a:lnTo>
                            <a:pt x="159" y="5"/>
                          </a:lnTo>
                          <a:lnTo>
                            <a:pt x="165" y="8"/>
                          </a:lnTo>
                          <a:lnTo>
                            <a:pt x="180" y="15"/>
                          </a:lnTo>
                          <a:lnTo>
                            <a:pt x="194" y="23"/>
                          </a:lnTo>
                          <a:lnTo>
                            <a:pt x="210" y="23"/>
                          </a:lnTo>
                          <a:lnTo>
                            <a:pt x="224" y="21"/>
                          </a:lnTo>
                          <a:lnTo>
                            <a:pt x="233" y="26"/>
                          </a:lnTo>
                          <a:lnTo>
                            <a:pt x="237" y="29"/>
                          </a:lnTo>
                          <a:lnTo>
                            <a:pt x="246" y="35"/>
                          </a:lnTo>
                          <a:lnTo>
                            <a:pt x="254" y="33"/>
                          </a:lnTo>
                          <a:lnTo>
                            <a:pt x="260" y="33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Freeform 145"/>
                    <p:cNvSpPr/>
                    <p:nvPr/>
                  </p:nvSpPr>
                  <p:spPr>
                    <a:xfrm>
                      <a:off x="7896240" y="1501560"/>
                      <a:ext cx="5040" cy="176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3" h="11">
                          <a:moveTo>
                            <a:pt x="0" y="0"/>
                          </a:moveTo>
                          <a:lnTo>
                            <a:pt x="1" y="8"/>
                          </a:lnTo>
                          <a:lnTo>
                            <a:pt x="3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9" name="Freeform 146"/>
                    <p:cNvSpPr/>
                    <p:nvPr/>
                  </p:nvSpPr>
                  <p:spPr>
                    <a:xfrm>
                      <a:off x="7906320" y="1538280"/>
                      <a:ext cx="1800" cy="1908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0"/>
                          </a:moveTo>
                          <a:lnTo>
                            <a:pt x="1" y="10"/>
                          </a:lnTo>
                          <a:lnTo>
                            <a:pt x="1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Freeform 147"/>
                    <p:cNvSpPr/>
                    <p:nvPr/>
                  </p:nvSpPr>
                  <p:spPr>
                    <a:xfrm>
                      <a:off x="7911360" y="157644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4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Freeform 148"/>
                    <p:cNvSpPr/>
                    <p:nvPr/>
                  </p:nvSpPr>
                  <p:spPr>
                    <a:xfrm>
                      <a:off x="7923240" y="1611360"/>
                      <a:ext cx="11880" cy="140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7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Freeform 149"/>
                    <p:cNvSpPr/>
                    <p:nvPr/>
                  </p:nvSpPr>
                  <p:spPr>
                    <a:xfrm>
                      <a:off x="7950960" y="1636560"/>
                      <a:ext cx="13320" cy="176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" h="11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8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Freeform 150"/>
                    <p:cNvSpPr/>
                    <p:nvPr/>
                  </p:nvSpPr>
                  <p:spPr>
                    <a:xfrm>
                      <a:off x="7975080" y="1670040"/>
                      <a:ext cx="16920" cy="93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0" y="0"/>
                          </a:moveTo>
                          <a:lnTo>
                            <a:pt x="3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4" name="Freeform 151"/>
                    <p:cNvSpPr/>
                    <p:nvPr/>
                  </p:nvSpPr>
                  <p:spPr>
                    <a:xfrm>
                      <a:off x="8007120" y="16923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0" y="0"/>
                          </a:moveTo>
                          <a:lnTo>
                            <a:pt x="5" y="4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5" name="Line 152"/>
                    <p:cNvSpPr/>
                    <p:nvPr/>
                  </p:nvSpPr>
                  <p:spPr>
                    <a:xfrm>
                      <a:off x="8015760" y="1727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Line 153"/>
                    <p:cNvSpPr/>
                    <p:nvPr/>
                  </p:nvSpPr>
                  <p:spPr>
                    <a:xfrm>
                      <a:off x="8012520" y="17650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Line 154"/>
                    <p:cNvSpPr/>
                    <p:nvPr/>
                  </p:nvSpPr>
                  <p:spPr>
                    <a:xfrm flipH="1">
                      <a:off x="8010360" y="180324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Line 155"/>
                    <p:cNvSpPr/>
                    <p:nvPr/>
                  </p:nvSpPr>
                  <p:spPr>
                    <a:xfrm>
                      <a:off x="8010720" y="18414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Freeform 156"/>
                    <p:cNvSpPr/>
                    <p:nvPr/>
                  </p:nvSpPr>
                  <p:spPr>
                    <a:xfrm>
                      <a:off x="8007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2" y="0"/>
                          </a:moveTo>
                          <a:lnTo>
                            <a:pt x="0" y="9"/>
                          </a:lnTo>
                          <a:lnTo>
                            <a:pt x="3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Freeform 157"/>
                    <p:cNvSpPr/>
                    <p:nvPr/>
                  </p:nvSpPr>
                  <p:spPr>
                    <a:xfrm>
                      <a:off x="8031240" y="1908000"/>
                      <a:ext cx="10440" cy="1440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4" y="4"/>
                          </a:lnTo>
                          <a:lnTo>
                            <a:pt x="6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Freeform 158"/>
                    <p:cNvSpPr/>
                    <p:nvPr/>
                  </p:nvSpPr>
                  <p:spPr>
                    <a:xfrm>
                      <a:off x="8048160" y="1938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8" y="0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2" name="Freeform 159"/>
                    <p:cNvSpPr/>
                    <p:nvPr/>
                  </p:nvSpPr>
                  <p:spPr>
                    <a:xfrm>
                      <a:off x="8089200" y="19382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Freeform 160"/>
                    <p:cNvSpPr/>
                    <p:nvPr/>
                  </p:nvSpPr>
                  <p:spPr>
                    <a:xfrm>
                      <a:off x="8130600" y="1942920"/>
                      <a:ext cx="10080" cy="176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0" y="0"/>
                          </a:moveTo>
                          <a:lnTo>
                            <a:pt x="3" y="8"/>
                          </a:lnTo>
                          <a:lnTo>
                            <a:pt x="6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Freeform 161"/>
                    <p:cNvSpPr/>
                    <p:nvPr/>
                  </p:nvSpPr>
                  <p:spPr>
                    <a:xfrm>
                      <a:off x="8156160" y="1969920"/>
                      <a:ext cx="20520" cy="180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Freeform 162"/>
                    <p:cNvSpPr/>
                    <p:nvPr/>
                  </p:nvSpPr>
                  <p:spPr>
                    <a:xfrm>
                      <a:off x="8193600" y="195588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Freeform 163"/>
                    <p:cNvSpPr/>
                    <p:nvPr/>
                  </p:nvSpPr>
                  <p:spPr>
                    <a:xfrm>
                      <a:off x="8232840" y="196524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1" y="4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7" name="Freeform 164"/>
                    <p:cNvSpPr/>
                    <p:nvPr/>
                  </p:nvSpPr>
                  <p:spPr>
                    <a:xfrm>
                      <a:off x="8232840" y="2000160"/>
                      <a:ext cx="6840" cy="1764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0"/>
                          </a:moveTo>
                          <a:lnTo>
                            <a:pt x="4" y="5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Freeform 165"/>
                    <p:cNvSpPr/>
                    <p:nvPr/>
                  </p:nvSpPr>
                  <p:spPr>
                    <a:xfrm>
                      <a:off x="8202240" y="202860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7" y="0"/>
                          </a:moveTo>
                          <a:lnTo>
                            <a:pt x="4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166"/>
                    <p:cNvSpPr/>
                    <p:nvPr/>
                  </p:nvSpPr>
                  <p:spPr>
                    <a:xfrm>
                      <a:off x="8197200" y="206208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167"/>
                    <p:cNvSpPr/>
                    <p:nvPr/>
                  </p:nvSpPr>
                  <p:spPr>
                    <a:xfrm>
                      <a:off x="8197200" y="210024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" y="6"/>
                          </a:lnTo>
                          <a:lnTo>
                            <a:pt x="4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168"/>
                    <p:cNvSpPr/>
                    <p:nvPr/>
                  </p:nvSpPr>
                  <p:spPr>
                    <a:xfrm>
                      <a:off x="8212320" y="2135160"/>
                      <a:ext cx="15480" cy="126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169"/>
                    <p:cNvSpPr/>
                    <p:nvPr/>
                  </p:nvSpPr>
                  <p:spPr>
                    <a:xfrm>
                      <a:off x="8244720" y="214452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2"/>
                          </a:moveTo>
                          <a:lnTo>
                            <a:pt x="3" y="0"/>
                          </a:lnTo>
                          <a:lnTo>
                            <a:pt x="12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170"/>
                    <p:cNvSpPr/>
                    <p:nvPr/>
                  </p:nvSpPr>
                  <p:spPr>
                    <a:xfrm>
                      <a:off x="8286120" y="2154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11" y="2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171"/>
                    <p:cNvSpPr/>
                    <p:nvPr/>
                  </p:nvSpPr>
                  <p:spPr>
                    <a:xfrm>
                      <a:off x="8311680" y="216360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5" y="0"/>
                          </a:moveTo>
                          <a:lnTo>
                            <a:pt x="5" y="2"/>
                          </a:lnTo>
                          <a:lnTo>
                            <a:pt x="2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Freeform 172"/>
                    <p:cNvSpPr/>
                    <p:nvPr/>
                  </p:nvSpPr>
                  <p:spPr>
                    <a:xfrm>
                      <a:off x="8294400" y="219708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5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173"/>
                    <p:cNvSpPr/>
                    <p:nvPr/>
                  </p:nvSpPr>
                  <p:spPr>
                    <a:xfrm>
                      <a:off x="8265600" y="2233440"/>
                      <a:ext cx="18720" cy="50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174"/>
                    <p:cNvSpPr/>
                    <p:nvPr/>
                  </p:nvSpPr>
                  <p:spPr>
                    <a:xfrm>
                      <a:off x="8229600" y="22399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0"/>
                          </a:moveTo>
                          <a:lnTo>
                            <a:pt x="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Line 175"/>
                    <p:cNvSpPr/>
                    <p:nvPr/>
                  </p:nvSpPr>
                  <p:spPr>
                    <a:xfrm>
                      <a:off x="8219160" y="22636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176"/>
                    <p:cNvSpPr/>
                    <p:nvPr/>
                  </p:nvSpPr>
                  <p:spPr>
                    <a:xfrm>
                      <a:off x="8219160" y="2301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2" y="8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177"/>
                    <p:cNvSpPr/>
                    <p:nvPr/>
                  </p:nvSpPr>
                  <p:spPr>
                    <a:xfrm>
                      <a:off x="8227800" y="2340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Freeform 178"/>
                    <p:cNvSpPr/>
                    <p:nvPr/>
                  </p:nvSpPr>
                  <p:spPr>
                    <a:xfrm>
                      <a:off x="8227800" y="23781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2" name="Freeform 179"/>
                    <p:cNvSpPr/>
                    <p:nvPr/>
                  </p:nvSpPr>
                  <p:spPr>
                    <a:xfrm>
                      <a:off x="8227800" y="24159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180"/>
                    <p:cNvSpPr/>
                    <p:nvPr/>
                  </p:nvSpPr>
                  <p:spPr>
                    <a:xfrm>
                      <a:off x="8224200" y="245412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3" y="0"/>
                          </a:moveTo>
                          <a:lnTo>
                            <a:pt x="3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181"/>
                    <p:cNvSpPr/>
                    <p:nvPr/>
                  </p:nvSpPr>
                  <p:spPr>
                    <a:xfrm>
                      <a:off x="8188560" y="2484360"/>
                      <a:ext cx="18360" cy="32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0"/>
                          </a:moveTo>
                          <a:lnTo>
                            <a:pt x="9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Line 182"/>
                    <p:cNvSpPr/>
                    <p:nvPr/>
                  </p:nvSpPr>
                  <p:spPr>
                    <a:xfrm flipH="1">
                      <a:off x="8147160" y="2479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183"/>
                    <p:cNvSpPr/>
                    <p:nvPr/>
                  </p:nvSpPr>
                  <p:spPr>
                    <a:xfrm>
                      <a:off x="8107920" y="2477880"/>
                      <a:ext cx="18720" cy="180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1" h="1">
                          <a:moveTo>
                            <a:pt x="11" y="1"/>
                          </a:moveTo>
                          <a:lnTo>
                            <a:pt x="4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Freeform 184"/>
                    <p:cNvSpPr/>
                    <p:nvPr/>
                  </p:nvSpPr>
                  <p:spPr>
                    <a:xfrm>
                      <a:off x="8068680" y="2465280"/>
                      <a:ext cx="18720" cy="97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8" y="5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8" name="Line 185"/>
                    <p:cNvSpPr/>
                    <p:nvPr/>
                  </p:nvSpPr>
                  <p:spPr>
                    <a:xfrm flipH="1" flipV="1">
                      <a:off x="8030880" y="24490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Line 186"/>
                    <p:cNvSpPr/>
                    <p:nvPr/>
                  </p:nvSpPr>
                  <p:spPr>
                    <a:xfrm flipH="1" flipV="1">
                      <a:off x="7991640" y="2435040"/>
                      <a:ext cx="20520" cy="64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Line 187"/>
                    <p:cNvSpPr/>
                    <p:nvPr/>
                  </p:nvSpPr>
                  <p:spPr>
                    <a:xfrm flipH="1">
                      <a:off x="7956000" y="2440080"/>
                      <a:ext cx="187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188"/>
                    <p:cNvSpPr/>
                    <p:nvPr/>
                  </p:nvSpPr>
                  <p:spPr>
                    <a:xfrm>
                      <a:off x="7928280" y="2459160"/>
                      <a:ext cx="10440" cy="158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0"/>
                          </a:move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189"/>
                    <p:cNvSpPr/>
                    <p:nvPr/>
                  </p:nvSpPr>
                  <p:spPr>
                    <a:xfrm>
                      <a:off x="7911360" y="24890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2" y="0"/>
                          </a:moveTo>
                          <a:lnTo>
                            <a:pt x="1" y="2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Freeform 190"/>
                    <p:cNvSpPr/>
                    <p:nvPr/>
                  </p:nvSpPr>
                  <p:spPr>
                    <a:xfrm>
                      <a:off x="7908120" y="2527200"/>
                      <a:ext cx="2880" cy="19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Line 191"/>
                    <p:cNvSpPr/>
                    <p:nvPr/>
                  </p:nvSpPr>
                  <p:spPr>
                    <a:xfrm>
                      <a:off x="7914960" y="2565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Line 192"/>
                    <p:cNvSpPr/>
                    <p:nvPr/>
                  </p:nvSpPr>
                  <p:spPr>
                    <a:xfrm>
                      <a:off x="7923240" y="2603520"/>
                      <a:ext cx="504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193"/>
                    <p:cNvSpPr/>
                    <p:nvPr/>
                  </p:nvSpPr>
                  <p:spPr>
                    <a:xfrm>
                      <a:off x="7911360" y="2638440"/>
                      <a:ext cx="8280" cy="172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5" h="11">
                          <a:moveTo>
                            <a:pt x="5" y="0"/>
                          </a:moveTo>
                          <a:lnTo>
                            <a:pt x="2" y="3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194"/>
                    <p:cNvSpPr/>
                    <p:nvPr/>
                  </p:nvSpPr>
                  <p:spPr>
                    <a:xfrm>
                      <a:off x="7882200" y="2651040"/>
                      <a:ext cx="18720" cy="1116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1" h="7">
                          <a:moveTo>
                            <a:pt x="11" y="7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Freeform 195"/>
                    <p:cNvSpPr/>
                    <p:nvPr/>
                  </p:nvSpPr>
                  <p:spPr>
                    <a:xfrm>
                      <a:off x="7844760" y="2641680"/>
                      <a:ext cx="20520" cy="14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1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Freeform 196"/>
                    <p:cNvSpPr/>
                    <p:nvPr/>
                  </p:nvSpPr>
                  <p:spPr>
                    <a:xfrm>
                      <a:off x="7805520" y="264636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1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Freeform 197"/>
                    <p:cNvSpPr/>
                    <p:nvPr/>
                  </p:nvSpPr>
                  <p:spPr>
                    <a:xfrm>
                      <a:off x="7769520" y="264168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Line 198"/>
                    <p:cNvSpPr/>
                    <p:nvPr/>
                  </p:nvSpPr>
                  <p:spPr>
                    <a:xfrm flipH="1" flipV="1">
                      <a:off x="7731360" y="26334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Freeform 199"/>
                    <p:cNvSpPr/>
                    <p:nvPr/>
                  </p:nvSpPr>
                  <p:spPr>
                    <a:xfrm>
                      <a:off x="7694280" y="262260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Line 200"/>
                    <p:cNvSpPr/>
                    <p:nvPr/>
                  </p:nvSpPr>
                  <p:spPr>
                    <a:xfrm flipH="1">
                      <a:off x="7652880" y="26193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Line 201"/>
                    <p:cNvSpPr/>
                    <p:nvPr/>
                  </p:nvSpPr>
                  <p:spPr>
                    <a:xfrm flipH="1" flipV="1">
                      <a:off x="7611840" y="26222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Freeform 202"/>
                    <p:cNvSpPr/>
                    <p:nvPr/>
                  </p:nvSpPr>
                  <p:spPr>
                    <a:xfrm>
                      <a:off x="7572960" y="262260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Line 203"/>
                    <p:cNvSpPr/>
                    <p:nvPr/>
                  </p:nvSpPr>
                  <p:spPr>
                    <a:xfrm flipH="1" flipV="1">
                      <a:off x="7531200" y="2627280"/>
                      <a:ext cx="20520" cy="14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204"/>
                    <p:cNvSpPr/>
                    <p:nvPr/>
                  </p:nvSpPr>
                  <p:spPr>
                    <a:xfrm>
                      <a:off x="7490880" y="2624040"/>
                      <a:ext cx="20160" cy="324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12" y="2"/>
                          </a:moveTo>
                          <a:lnTo>
                            <a:pt x="2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Freeform 205"/>
                    <p:cNvSpPr/>
                    <p:nvPr/>
                  </p:nvSpPr>
                  <p:spPr>
                    <a:xfrm>
                      <a:off x="7453440" y="2617560"/>
                      <a:ext cx="18360" cy="50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3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9" name="Freeform 206"/>
                    <p:cNvSpPr/>
                    <p:nvPr/>
                  </p:nvSpPr>
                  <p:spPr>
                    <a:xfrm>
                      <a:off x="7456320" y="25844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0" name="Line 207"/>
                    <p:cNvSpPr/>
                    <p:nvPr/>
                  </p:nvSpPr>
                  <p:spPr>
                    <a:xfrm flipV="1">
                      <a:off x="7482600" y="2555640"/>
                      <a:ext cx="115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Line 208"/>
                    <p:cNvSpPr/>
                    <p:nvPr/>
                  </p:nvSpPr>
                  <p:spPr>
                    <a:xfrm flipV="1">
                      <a:off x="7506000" y="25272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Line 209"/>
                    <p:cNvSpPr/>
                    <p:nvPr/>
                  </p:nvSpPr>
                  <p:spPr>
                    <a:xfrm flipV="1">
                      <a:off x="7535160" y="2498400"/>
                      <a:ext cx="118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Line 210"/>
                    <p:cNvSpPr/>
                    <p:nvPr/>
                  </p:nvSpPr>
                  <p:spPr>
                    <a:xfrm flipV="1">
                      <a:off x="7560720" y="24685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Line 211"/>
                    <p:cNvSpPr/>
                    <p:nvPr/>
                  </p:nvSpPr>
                  <p:spPr>
                    <a:xfrm flipV="1">
                      <a:off x="7588440" y="2439720"/>
                      <a:ext cx="133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5" name="Line 212"/>
                    <p:cNvSpPr/>
                    <p:nvPr/>
                  </p:nvSpPr>
                  <p:spPr>
                    <a:xfrm flipV="1">
                      <a:off x="7612200" y="24030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Line 213"/>
                    <p:cNvSpPr/>
                    <p:nvPr/>
                  </p:nvSpPr>
                  <p:spPr>
                    <a:xfrm flipV="1">
                      <a:off x="7612200" y="236484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Line 214"/>
                    <p:cNvSpPr/>
                    <p:nvPr/>
                  </p:nvSpPr>
                  <p:spPr>
                    <a:xfrm flipV="1">
                      <a:off x="7612200" y="23284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8" name="Freeform 215"/>
                    <p:cNvSpPr/>
                    <p:nvPr/>
                  </p:nvSpPr>
                  <p:spPr>
                    <a:xfrm>
                      <a:off x="7603920" y="2295360"/>
                      <a:ext cx="8280" cy="1440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5" h="9">
                          <a:moveTo>
                            <a:pt x="5" y="9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Line 216"/>
                    <p:cNvSpPr/>
                    <p:nvPr/>
                  </p:nvSpPr>
                  <p:spPr>
                    <a:xfrm flipH="1" flipV="1">
                      <a:off x="7572600" y="22712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Line 217"/>
                    <p:cNvSpPr/>
                    <p:nvPr/>
                  </p:nvSpPr>
                  <p:spPr>
                    <a:xfrm flipH="1" flipV="1">
                      <a:off x="7539840" y="224748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1" name="Line 218"/>
                    <p:cNvSpPr/>
                    <p:nvPr/>
                  </p:nvSpPr>
                  <p:spPr>
                    <a:xfrm flipH="1" flipV="1">
                      <a:off x="7520040" y="22158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Freeform 219"/>
                    <p:cNvSpPr/>
                    <p:nvPr/>
                  </p:nvSpPr>
                  <p:spPr>
                    <a:xfrm>
                      <a:off x="7520040" y="2178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1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220"/>
                    <p:cNvSpPr/>
                    <p:nvPr/>
                  </p:nvSpPr>
                  <p:spPr>
                    <a:xfrm>
                      <a:off x="7525080" y="2139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12"/>
                          </a:moveTo>
                          <a:lnTo>
                            <a:pt x="1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Line 221"/>
                    <p:cNvSpPr/>
                    <p:nvPr/>
                  </p:nvSpPr>
                  <p:spPr>
                    <a:xfrm flipV="1">
                      <a:off x="7542000" y="21096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Line 222"/>
                    <p:cNvSpPr/>
                    <p:nvPr/>
                  </p:nvSpPr>
                  <p:spPr>
                    <a:xfrm flipV="1">
                      <a:off x="7566120" y="207972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223"/>
                    <p:cNvSpPr/>
                    <p:nvPr/>
                  </p:nvSpPr>
                  <p:spPr>
                    <a:xfrm>
                      <a:off x="7588440" y="2046240"/>
                      <a:ext cx="3240" cy="15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2" h="10">
                          <a:moveTo>
                            <a:pt x="0" y="10"/>
                          </a:moveTo>
                          <a:lnTo>
                            <a:pt x="2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Line 224"/>
                    <p:cNvSpPr/>
                    <p:nvPr/>
                  </p:nvSpPr>
                  <p:spPr>
                    <a:xfrm flipV="1">
                      <a:off x="7586640" y="2009880"/>
                      <a:ext cx="1152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Line 225"/>
                    <p:cNvSpPr/>
                    <p:nvPr/>
                  </p:nvSpPr>
                  <p:spPr>
                    <a:xfrm flipV="1">
                      <a:off x="7612200" y="1981080"/>
                      <a:ext cx="118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226"/>
                    <p:cNvSpPr/>
                    <p:nvPr/>
                  </p:nvSpPr>
                  <p:spPr>
                    <a:xfrm>
                      <a:off x="7638120" y="19508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Freeform 227"/>
                    <p:cNvSpPr/>
                    <p:nvPr/>
                  </p:nvSpPr>
                  <p:spPr>
                    <a:xfrm>
                      <a:off x="7655040" y="191448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0" y="12"/>
                          </a:moveTo>
                          <a:lnTo>
                            <a:pt x="2" y="8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Freeform 228"/>
                    <p:cNvSpPr/>
                    <p:nvPr/>
                  </p:nvSpPr>
                  <p:spPr>
                    <a:xfrm>
                      <a:off x="7665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Freeform 229"/>
                    <p:cNvSpPr/>
                    <p:nvPr/>
                  </p:nvSpPr>
                  <p:spPr>
                    <a:xfrm>
                      <a:off x="7675560" y="1846080"/>
                      <a:ext cx="13320" cy="158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8" h="10">
                          <a:moveTo>
                            <a:pt x="0" y="10"/>
                          </a:moveTo>
                          <a:lnTo>
                            <a:pt x="5" y="3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3" name="Line 230"/>
                    <p:cNvSpPr/>
                    <p:nvPr/>
                  </p:nvSpPr>
                  <p:spPr>
                    <a:xfrm flipV="1">
                      <a:off x="7701120" y="1820520"/>
                      <a:ext cx="154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Line 231"/>
                    <p:cNvSpPr/>
                    <p:nvPr/>
                  </p:nvSpPr>
                  <p:spPr>
                    <a:xfrm flipH="1" flipV="1">
                      <a:off x="7695720" y="179820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5" name="Line 232"/>
                    <p:cNvSpPr/>
                    <p:nvPr/>
                  </p:nvSpPr>
                  <p:spPr>
                    <a:xfrm flipH="1" flipV="1">
                      <a:off x="7663320" y="1774440"/>
                      <a:ext cx="16920" cy="126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Freeform 233"/>
                    <p:cNvSpPr/>
                    <p:nvPr/>
                  </p:nvSpPr>
                  <p:spPr>
                    <a:xfrm>
                      <a:off x="7627320" y="1770120"/>
                      <a:ext cx="15480" cy="792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9" y="5"/>
                          </a:moveTo>
                          <a:lnTo>
                            <a:pt x="1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234"/>
                    <p:cNvSpPr/>
                    <p:nvPr/>
                  </p:nvSpPr>
                  <p:spPr>
                    <a:xfrm>
                      <a:off x="7603920" y="1739880"/>
                      <a:ext cx="10080" cy="158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10"/>
                          </a:move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Line 235"/>
                    <p:cNvSpPr/>
                    <p:nvPr/>
                  </p:nvSpPr>
                  <p:spPr>
                    <a:xfrm flipV="1">
                      <a:off x="7614000" y="1702800"/>
                      <a:ext cx="1044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9" name="Line 236"/>
                    <p:cNvSpPr/>
                    <p:nvPr/>
                  </p:nvSpPr>
                  <p:spPr>
                    <a:xfrm flipV="1">
                      <a:off x="7633080" y="1670040"/>
                      <a:ext cx="64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Line 237"/>
                    <p:cNvSpPr/>
                    <p:nvPr/>
                  </p:nvSpPr>
                  <p:spPr>
                    <a:xfrm flipV="1">
                      <a:off x="7650000" y="163512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Line 238"/>
                    <p:cNvSpPr/>
                    <p:nvPr/>
                  </p:nvSpPr>
                  <p:spPr>
                    <a:xfrm flipH="1" flipV="1">
                      <a:off x="7644240" y="160020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Freeform 239"/>
                    <p:cNvSpPr/>
                    <p:nvPr/>
                  </p:nvSpPr>
                  <p:spPr>
                    <a:xfrm>
                      <a:off x="7633080" y="1563480"/>
                      <a:ext cx="6480" cy="176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11"/>
                          </a:move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Freeform 240"/>
                    <p:cNvSpPr/>
                    <p:nvPr/>
                  </p:nvSpPr>
                  <p:spPr>
                    <a:xfrm>
                      <a:off x="7627320" y="1539720"/>
                      <a:ext cx="16920" cy="504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3" y="2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Line 241"/>
                    <p:cNvSpPr/>
                    <p:nvPr/>
                  </p:nvSpPr>
                  <p:spPr>
                    <a:xfrm flipV="1">
                      <a:off x="7658640" y="15098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5" name="Line 242"/>
                    <p:cNvSpPr/>
                    <p:nvPr/>
                  </p:nvSpPr>
                  <p:spPr>
                    <a:xfrm flipV="1">
                      <a:off x="7663680" y="1471320"/>
                      <a:ext cx="14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243"/>
                    <p:cNvSpPr/>
                    <p:nvPr/>
                  </p:nvSpPr>
                  <p:spPr>
                    <a:xfrm>
                      <a:off x="7670520" y="14493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5" y="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244"/>
                    <p:cNvSpPr/>
                    <p:nvPr/>
                  </p:nvSpPr>
                  <p:spPr>
                    <a:xfrm>
                      <a:off x="7711200" y="1452600"/>
                      <a:ext cx="17280" cy="6120"/>
                    </a:xfrm>
                    <a:custGeom>
                      <a:avLst/>
                      <a:gdLst>
                        <a:gd name="textAreaLeft" fmla="*/ 0 w 17280"/>
                        <a:gd name="textAreaRight" fmla="*/ 17640 w 1728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245"/>
                    <p:cNvSpPr/>
                    <p:nvPr/>
                  </p:nvSpPr>
                  <p:spPr>
                    <a:xfrm>
                      <a:off x="7747200" y="146844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Line 246"/>
                    <p:cNvSpPr/>
                    <p:nvPr/>
                  </p:nvSpPr>
                  <p:spPr>
                    <a:xfrm>
                      <a:off x="7785000" y="148572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247"/>
                    <p:cNvSpPr/>
                    <p:nvPr/>
                  </p:nvSpPr>
                  <p:spPr>
                    <a:xfrm>
                      <a:off x="7826040" y="148284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11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Freeform 248"/>
                    <p:cNvSpPr/>
                    <p:nvPr/>
                  </p:nvSpPr>
                  <p:spPr>
                    <a:xfrm>
                      <a:off x="7861680" y="149688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0" y="0"/>
                          </a:moveTo>
                          <a:lnTo>
                            <a:pt x="6" y="5"/>
                          </a:lnTo>
                          <a:lnTo>
                            <a:pt x="11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249"/>
                    <p:cNvSpPr/>
                    <p:nvPr/>
                  </p:nvSpPr>
                  <p:spPr>
                    <a:xfrm>
                      <a:off x="7066800" y="1544760"/>
                      <a:ext cx="656280" cy="1054080"/>
                    </a:xfrm>
                    <a:custGeom>
                      <a:avLst/>
                      <a:gdLst>
                        <a:gd name="textAreaLeft" fmla="*/ 0 w 656280"/>
                        <a:gd name="textAreaRight" fmla="*/ 656640 w 656280"/>
                        <a:gd name="textAreaTop" fmla="*/ 0 h 1054080"/>
                        <a:gd name="textAreaBottom" fmla="*/ 1054080 h 1054080"/>
                      </a:gdLst>
                      <a:ahLst/>
                      <a:rect l="textAreaLeft" t="textAreaTop" r="textAreaRight" b="textAreaBottom"/>
                      <a:pathLst>
                        <a:path w="384" h="664">
                          <a:moveTo>
                            <a:pt x="228" y="664"/>
                          </a:moveTo>
                          <a:lnTo>
                            <a:pt x="226" y="649"/>
                          </a:lnTo>
                          <a:lnTo>
                            <a:pt x="219" y="643"/>
                          </a:lnTo>
                          <a:lnTo>
                            <a:pt x="207" y="634"/>
                          </a:lnTo>
                          <a:lnTo>
                            <a:pt x="199" y="627"/>
                          </a:lnTo>
                          <a:lnTo>
                            <a:pt x="192" y="618"/>
                          </a:lnTo>
                          <a:lnTo>
                            <a:pt x="180" y="612"/>
                          </a:lnTo>
                          <a:lnTo>
                            <a:pt x="169" y="609"/>
                          </a:lnTo>
                          <a:lnTo>
                            <a:pt x="174" y="604"/>
                          </a:lnTo>
                          <a:lnTo>
                            <a:pt x="162" y="604"/>
                          </a:lnTo>
                          <a:lnTo>
                            <a:pt x="148" y="603"/>
                          </a:lnTo>
                          <a:lnTo>
                            <a:pt x="138" y="601"/>
                          </a:lnTo>
                          <a:lnTo>
                            <a:pt x="124" y="607"/>
                          </a:lnTo>
                          <a:lnTo>
                            <a:pt x="114" y="603"/>
                          </a:lnTo>
                          <a:lnTo>
                            <a:pt x="110" y="592"/>
                          </a:lnTo>
                          <a:lnTo>
                            <a:pt x="105" y="583"/>
                          </a:lnTo>
                          <a:lnTo>
                            <a:pt x="96" y="580"/>
                          </a:lnTo>
                          <a:lnTo>
                            <a:pt x="83" y="577"/>
                          </a:lnTo>
                          <a:lnTo>
                            <a:pt x="74" y="573"/>
                          </a:lnTo>
                          <a:lnTo>
                            <a:pt x="66" y="565"/>
                          </a:lnTo>
                          <a:lnTo>
                            <a:pt x="53" y="561"/>
                          </a:lnTo>
                          <a:lnTo>
                            <a:pt x="41" y="553"/>
                          </a:lnTo>
                          <a:lnTo>
                            <a:pt x="27" y="553"/>
                          </a:lnTo>
                          <a:lnTo>
                            <a:pt x="15" y="547"/>
                          </a:lnTo>
                          <a:lnTo>
                            <a:pt x="6" y="537"/>
                          </a:lnTo>
                          <a:lnTo>
                            <a:pt x="0" y="528"/>
                          </a:lnTo>
                          <a:lnTo>
                            <a:pt x="0" y="519"/>
                          </a:lnTo>
                          <a:lnTo>
                            <a:pt x="9" y="513"/>
                          </a:lnTo>
                          <a:lnTo>
                            <a:pt x="20" y="504"/>
                          </a:lnTo>
                          <a:lnTo>
                            <a:pt x="20" y="498"/>
                          </a:lnTo>
                          <a:lnTo>
                            <a:pt x="18" y="486"/>
                          </a:lnTo>
                          <a:lnTo>
                            <a:pt x="15" y="471"/>
                          </a:lnTo>
                          <a:lnTo>
                            <a:pt x="12" y="455"/>
                          </a:lnTo>
                          <a:lnTo>
                            <a:pt x="14" y="434"/>
                          </a:lnTo>
                          <a:lnTo>
                            <a:pt x="18" y="407"/>
                          </a:lnTo>
                          <a:lnTo>
                            <a:pt x="29" y="395"/>
                          </a:lnTo>
                          <a:lnTo>
                            <a:pt x="44" y="380"/>
                          </a:lnTo>
                          <a:lnTo>
                            <a:pt x="54" y="363"/>
                          </a:lnTo>
                          <a:lnTo>
                            <a:pt x="62" y="341"/>
                          </a:lnTo>
                          <a:lnTo>
                            <a:pt x="60" y="325"/>
                          </a:lnTo>
                          <a:lnTo>
                            <a:pt x="54" y="298"/>
                          </a:lnTo>
                          <a:lnTo>
                            <a:pt x="56" y="280"/>
                          </a:lnTo>
                          <a:lnTo>
                            <a:pt x="59" y="260"/>
                          </a:lnTo>
                          <a:lnTo>
                            <a:pt x="65" y="248"/>
                          </a:lnTo>
                          <a:lnTo>
                            <a:pt x="77" y="241"/>
                          </a:lnTo>
                          <a:lnTo>
                            <a:pt x="81" y="232"/>
                          </a:lnTo>
                          <a:lnTo>
                            <a:pt x="86" y="217"/>
                          </a:lnTo>
                          <a:lnTo>
                            <a:pt x="87" y="212"/>
                          </a:lnTo>
                          <a:lnTo>
                            <a:pt x="93" y="193"/>
                          </a:lnTo>
                          <a:lnTo>
                            <a:pt x="96" y="180"/>
                          </a:lnTo>
                          <a:lnTo>
                            <a:pt x="98" y="165"/>
                          </a:lnTo>
                          <a:lnTo>
                            <a:pt x="104" y="160"/>
                          </a:lnTo>
                          <a:lnTo>
                            <a:pt x="110" y="160"/>
                          </a:lnTo>
                          <a:lnTo>
                            <a:pt x="116" y="165"/>
                          </a:lnTo>
                          <a:lnTo>
                            <a:pt x="120" y="160"/>
                          </a:lnTo>
                          <a:lnTo>
                            <a:pt x="127" y="147"/>
                          </a:lnTo>
                          <a:lnTo>
                            <a:pt x="127" y="138"/>
                          </a:lnTo>
                          <a:lnTo>
                            <a:pt x="121" y="39"/>
                          </a:lnTo>
                          <a:lnTo>
                            <a:pt x="190" y="0"/>
                          </a:lnTo>
                          <a:lnTo>
                            <a:pt x="196" y="3"/>
                          </a:lnTo>
                          <a:lnTo>
                            <a:pt x="207" y="6"/>
                          </a:lnTo>
                          <a:lnTo>
                            <a:pt x="219" y="9"/>
                          </a:lnTo>
                          <a:lnTo>
                            <a:pt x="232" y="15"/>
                          </a:lnTo>
                          <a:lnTo>
                            <a:pt x="237" y="18"/>
                          </a:lnTo>
                          <a:lnTo>
                            <a:pt x="248" y="18"/>
                          </a:lnTo>
                          <a:lnTo>
                            <a:pt x="256" y="18"/>
                          </a:lnTo>
                          <a:lnTo>
                            <a:pt x="265" y="17"/>
                          </a:lnTo>
                          <a:lnTo>
                            <a:pt x="269" y="15"/>
                          </a:lnTo>
                          <a:lnTo>
                            <a:pt x="284" y="11"/>
                          </a:lnTo>
                          <a:lnTo>
                            <a:pt x="301" y="5"/>
                          </a:lnTo>
                          <a:lnTo>
                            <a:pt x="316" y="0"/>
                          </a:lnTo>
                          <a:lnTo>
                            <a:pt x="328" y="0"/>
                          </a:lnTo>
                          <a:lnTo>
                            <a:pt x="334" y="21"/>
                          </a:lnTo>
                          <a:lnTo>
                            <a:pt x="347" y="55"/>
                          </a:lnTo>
                          <a:lnTo>
                            <a:pt x="314" y="124"/>
                          </a:lnTo>
                          <a:lnTo>
                            <a:pt x="329" y="147"/>
                          </a:lnTo>
                          <a:lnTo>
                            <a:pt x="349" y="145"/>
                          </a:lnTo>
                          <a:lnTo>
                            <a:pt x="384" y="171"/>
                          </a:lnTo>
                          <a:lnTo>
                            <a:pt x="361" y="193"/>
                          </a:lnTo>
                          <a:lnTo>
                            <a:pt x="350" y="211"/>
                          </a:lnTo>
                          <a:lnTo>
                            <a:pt x="353" y="224"/>
                          </a:lnTo>
                          <a:lnTo>
                            <a:pt x="346" y="241"/>
                          </a:lnTo>
                          <a:lnTo>
                            <a:pt x="341" y="256"/>
                          </a:lnTo>
                          <a:lnTo>
                            <a:pt x="328" y="272"/>
                          </a:lnTo>
                          <a:lnTo>
                            <a:pt x="313" y="290"/>
                          </a:lnTo>
                          <a:lnTo>
                            <a:pt x="304" y="304"/>
                          </a:lnTo>
                          <a:lnTo>
                            <a:pt x="307" y="326"/>
                          </a:lnTo>
                          <a:lnTo>
                            <a:pt x="287" y="353"/>
                          </a:lnTo>
                          <a:lnTo>
                            <a:pt x="269" y="378"/>
                          </a:lnTo>
                          <a:lnTo>
                            <a:pt x="265" y="401"/>
                          </a:lnTo>
                          <a:lnTo>
                            <a:pt x="265" y="419"/>
                          </a:lnTo>
                          <a:lnTo>
                            <a:pt x="269" y="437"/>
                          </a:lnTo>
                          <a:lnTo>
                            <a:pt x="296" y="458"/>
                          </a:lnTo>
                          <a:lnTo>
                            <a:pt x="319" y="476"/>
                          </a:lnTo>
                          <a:lnTo>
                            <a:pt x="319" y="558"/>
                          </a:lnTo>
                          <a:lnTo>
                            <a:pt x="228" y="664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Line 250"/>
                    <p:cNvSpPr/>
                    <p:nvPr/>
                  </p:nvSpPr>
                  <p:spPr>
                    <a:xfrm flipH="1" flipV="1">
                      <a:off x="7453440" y="2579400"/>
                      <a:ext cx="288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Line 251"/>
                    <p:cNvSpPr/>
                    <p:nvPr/>
                  </p:nvSpPr>
                  <p:spPr>
                    <a:xfrm flipH="1" flipV="1">
                      <a:off x="7425360" y="25538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252"/>
                    <p:cNvSpPr/>
                    <p:nvPr/>
                  </p:nvSpPr>
                  <p:spPr>
                    <a:xfrm>
                      <a:off x="7395120" y="252720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253"/>
                    <p:cNvSpPr/>
                    <p:nvPr/>
                  </p:nvSpPr>
                  <p:spPr>
                    <a:xfrm>
                      <a:off x="7359120" y="2511360"/>
                      <a:ext cx="16920" cy="64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10" y="4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Freeform 254"/>
                    <p:cNvSpPr/>
                    <p:nvPr/>
                  </p:nvSpPr>
                  <p:spPr>
                    <a:xfrm>
                      <a:off x="7333560" y="25034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255"/>
                    <p:cNvSpPr/>
                    <p:nvPr/>
                  </p:nvSpPr>
                  <p:spPr>
                    <a:xfrm>
                      <a:off x="7293960" y="2498760"/>
                      <a:ext cx="18720" cy="32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2"/>
                          </a:moveTo>
                          <a:lnTo>
                            <a:pt x="5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256"/>
                    <p:cNvSpPr/>
                    <p:nvPr/>
                  </p:nvSpPr>
                  <p:spPr>
                    <a:xfrm>
                      <a:off x="7259760" y="2496960"/>
                      <a:ext cx="13680" cy="972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8" h="6">
                          <a:moveTo>
                            <a:pt x="8" y="6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257"/>
                    <p:cNvSpPr/>
                    <p:nvPr/>
                  </p:nvSpPr>
                  <p:spPr>
                    <a:xfrm>
                      <a:off x="7236360" y="24685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6"/>
                          </a:moveTo>
                          <a:lnTo>
                            <a:pt x="6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258"/>
                    <p:cNvSpPr/>
                    <p:nvPr/>
                  </p:nvSpPr>
                  <p:spPr>
                    <a:xfrm>
                      <a:off x="7198560" y="245592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5"/>
                          </a:moveTo>
                          <a:lnTo>
                            <a:pt x="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259"/>
                    <p:cNvSpPr/>
                    <p:nvPr/>
                  </p:nvSpPr>
                  <p:spPr>
                    <a:xfrm>
                      <a:off x="7162560" y="243684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Freeform 260"/>
                    <p:cNvSpPr/>
                    <p:nvPr/>
                  </p:nvSpPr>
                  <p:spPr>
                    <a:xfrm>
                      <a:off x="7126560" y="242244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261"/>
                    <p:cNvSpPr/>
                    <p:nvPr/>
                  </p:nvSpPr>
                  <p:spPr>
                    <a:xfrm>
                      <a:off x="7087320" y="2408040"/>
                      <a:ext cx="18360" cy="129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11" h="8">
                          <a:moveTo>
                            <a:pt x="11" y="8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262"/>
                    <p:cNvSpPr/>
                    <p:nvPr/>
                  </p:nvSpPr>
                  <p:spPr>
                    <a:xfrm>
                      <a:off x="7066800" y="23781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10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66" name="Freeform 263"/>
                  <p:cNvSpPr/>
                  <p:nvPr/>
                </p:nvSpPr>
                <p:spPr>
                  <a:xfrm>
                    <a:off x="7075440" y="2352600"/>
                    <a:ext cx="15480" cy="111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Line 264"/>
                  <p:cNvSpPr/>
                  <p:nvPr/>
                </p:nvSpPr>
                <p:spPr>
                  <a:xfrm flipH="1" flipV="1">
                    <a:off x="7097040" y="231588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Freeform 265"/>
                  <p:cNvSpPr/>
                  <p:nvPr/>
                </p:nvSpPr>
                <p:spPr>
                  <a:xfrm>
                    <a:off x="7090920" y="228132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12"/>
                        </a:moveTo>
                        <a:lnTo>
                          <a:pt x="1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Line 266"/>
                  <p:cNvSpPr/>
                  <p:nvPr/>
                </p:nvSpPr>
                <p:spPr>
                  <a:xfrm flipV="1">
                    <a:off x="7087320" y="224280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Line 267"/>
                  <p:cNvSpPr/>
                  <p:nvPr/>
                </p:nvSpPr>
                <p:spPr>
                  <a:xfrm flipV="1">
                    <a:off x="7092360" y="220464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Line 268"/>
                  <p:cNvSpPr/>
                  <p:nvPr/>
                </p:nvSpPr>
                <p:spPr>
                  <a:xfrm flipV="1">
                    <a:off x="7102800" y="217296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Freeform 269"/>
                  <p:cNvSpPr/>
                  <p:nvPr/>
                </p:nvSpPr>
                <p:spPr>
                  <a:xfrm>
                    <a:off x="7131960" y="214452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0" y="9"/>
                        </a:moveTo>
                        <a:lnTo>
                          <a:pt x="6" y="2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270"/>
                  <p:cNvSpPr/>
                  <p:nvPr/>
                </p:nvSpPr>
                <p:spPr>
                  <a:xfrm>
                    <a:off x="7154280" y="21114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0" y="11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271"/>
                  <p:cNvSpPr/>
                  <p:nvPr/>
                </p:nvSpPr>
                <p:spPr>
                  <a:xfrm>
                    <a:off x="7169760" y="2074680"/>
                    <a:ext cx="2880" cy="1908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2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Line 272"/>
                  <p:cNvSpPr/>
                  <p:nvPr/>
                </p:nvSpPr>
                <p:spPr>
                  <a:xfrm flipH="1" flipV="1">
                    <a:off x="7164000" y="2038320"/>
                    <a:ext cx="5400" cy="172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273"/>
                  <p:cNvSpPr/>
                  <p:nvPr/>
                </p:nvSpPr>
                <p:spPr>
                  <a:xfrm>
                    <a:off x="7159320" y="200016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0" y="11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Line 274"/>
                  <p:cNvSpPr/>
                  <p:nvPr/>
                </p:nvSpPr>
                <p:spPr>
                  <a:xfrm flipV="1">
                    <a:off x="7162560" y="196164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Freeform 275"/>
                  <p:cNvSpPr/>
                  <p:nvPr/>
                </p:nvSpPr>
                <p:spPr>
                  <a:xfrm>
                    <a:off x="7174800" y="193176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0" y="9"/>
                        </a:moveTo>
                        <a:lnTo>
                          <a:pt x="2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Freeform 276"/>
                  <p:cNvSpPr/>
                  <p:nvPr/>
                </p:nvSpPr>
                <p:spPr>
                  <a:xfrm>
                    <a:off x="7203600" y="190008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1" y="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277"/>
                  <p:cNvSpPr/>
                  <p:nvPr/>
                </p:nvSpPr>
                <p:spPr>
                  <a:xfrm>
                    <a:off x="7215840" y="1865160"/>
                    <a:ext cx="5040" cy="1584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278"/>
                  <p:cNvSpPr/>
                  <p:nvPr/>
                </p:nvSpPr>
                <p:spPr>
                  <a:xfrm>
                    <a:off x="7225920" y="182700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3" y="2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279"/>
                  <p:cNvSpPr/>
                  <p:nvPr/>
                </p:nvSpPr>
                <p:spPr>
                  <a:xfrm>
                    <a:off x="7234560" y="1798560"/>
                    <a:ext cx="15480" cy="972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280"/>
                  <p:cNvSpPr/>
                  <p:nvPr/>
                </p:nvSpPr>
                <p:spPr>
                  <a:xfrm>
                    <a:off x="7266960" y="17892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0" y="9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Freeform 281"/>
                  <p:cNvSpPr/>
                  <p:nvPr/>
                </p:nvSpPr>
                <p:spPr>
                  <a:xfrm>
                    <a:off x="7284240" y="1751040"/>
                    <a:ext cx="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2">
                        <a:moveTo>
                          <a:pt x="0" y="12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Line 282"/>
                  <p:cNvSpPr/>
                  <p:nvPr/>
                </p:nvSpPr>
                <p:spPr>
                  <a:xfrm flipH="1" flipV="1">
                    <a:off x="7282440" y="171252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Line 283"/>
                  <p:cNvSpPr/>
                  <p:nvPr/>
                </p:nvSpPr>
                <p:spPr>
                  <a:xfrm flipH="1" flipV="1">
                    <a:off x="7278840" y="167436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Line 284"/>
                  <p:cNvSpPr/>
                  <p:nvPr/>
                </p:nvSpPr>
                <p:spPr>
                  <a:xfrm flipH="1" flipV="1">
                    <a:off x="7276680" y="16362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285"/>
                  <p:cNvSpPr/>
                  <p:nvPr/>
                </p:nvSpPr>
                <p:spPr>
                  <a:xfrm>
                    <a:off x="7274160" y="1604880"/>
                    <a:ext cx="8280" cy="1260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5" h="8">
                        <a:moveTo>
                          <a:pt x="2" y="8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Line 286"/>
                  <p:cNvSpPr/>
                  <p:nvPr/>
                </p:nvSpPr>
                <p:spPr>
                  <a:xfrm flipV="1">
                    <a:off x="7299720" y="158544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Line 287"/>
                  <p:cNvSpPr/>
                  <p:nvPr/>
                </p:nvSpPr>
                <p:spPr>
                  <a:xfrm flipV="1">
                    <a:off x="7335360" y="1566360"/>
                    <a:ext cx="1872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Line 288"/>
                  <p:cNvSpPr/>
                  <p:nvPr/>
                </p:nvSpPr>
                <p:spPr>
                  <a:xfrm flipV="1">
                    <a:off x="7371360" y="154728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289"/>
                  <p:cNvSpPr/>
                  <p:nvPr/>
                </p:nvSpPr>
                <p:spPr>
                  <a:xfrm>
                    <a:off x="7410600" y="1552680"/>
                    <a:ext cx="16920" cy="468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0" h="3">
                        <a:moveTo>
                          <a:pt x="0" y="0"/>
                        </a:moveTo>
                        <a:lnTo>
                          <a:pt x="6" y="1"/>
                        </a:lnTo>
                        <a:lnTo>
                          <a:pt x="10" y="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Freeform 290"/>
                  <p:cNvSpPr/>
                  <p:nvPr/>
                </p:nvSpPr>
                <p:spPr>
                  <a:xfrm>
                    <a:off x="7448040" y="1562040"/>
                    <a:ext cx="18720" cy="936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" h="6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1" y="6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Freeform 291"/>
                  <p:cNvSpPr/>
                  <p:nvPr/>
                </p:nvSpPr>
                <p:spPr>
                  <a:xfrm>
                    <a:off x="7487640" y="1573200"/>
                    <a:ext cx="18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292"/>
                  <p:cNvSpPr/>
                  <p:nvPr/>
                </p:nvSpPr>
                <p:spPr>
                  <a:xfrm>
                    <a:off x="7526880" y="1563480"/>
                    <a:ext cx="18720" cy="79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293"/>
                  <p:cNvSpPr/>
                  <p:nvPr/>
                </p:nvSpPr>
                <p:spPr>
                  <a:xfrm>
                    <a:off x="7566480" y="1552680"/>
                    <a:ext cx="20520" cy="46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2" h="3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294"/>
                  <p:cNvSpPr/>
                  <p:nvPr/>
                </p:nvSpPr>
                <p:spPr>
                  <a:xfrm>
                    <a:off x="7603920" y="1544760"/>
                    <a:ext cx="20520" cy="28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880"/>
                      <a:gd name="textAreaBottom" fmla="*/ 3240 h 2880"/>
                    </a:gdLst>
                    <a:ahLst/>
                    <a:rect l="textAreaLeft" t="textAreaTop" r="textAreaRight" b="textAreaBottom"/>
                    <a:pathLst>
                      <a:path w="12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295"/>
                  <p:cNvSpPr/>
                  <p:nvPr/>
                </p:nvSpPr>
                <p:spPr>
                  <a:xfrm>
                    <a:off x="7633080" y="1562040"/>
                    <a:ext cx="6480" cy="190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3" y="10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Line 296"/>
                  <p:cNvSpPr/>
                  <p:nvPr/>
                </p:nvSpPr>
                <p:spPr>
                  <a:xfrm>
                    <a:off x="7644960" y="159696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Line 297"/>
                  <p:cNvSpPr/>
                  <p:nvPr/>
                </p:nvSpPr>
                <p:spPr>
                  <a:xfrm flipH="1">
                    <a:off x="7650000" y="163188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Line 298"/>
                  <p:cNvSpPr/>
                  <p:nvPr/>
                </p:nvSpPr>
                <p:spPr>
                  <a:xfrm flipH="1">
                    <a:off x="7633080" y="1668240"/>
                    <a:ext cx="10080" cy="162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Line 299"/>
                  <p:cNvSpPr/>
                  <p:nvPr/>
                </p:nvSpPr>
                <p:spPr>
                  <a:xfrm flipH="1">
                    <a:off x="7617240" y="1703160"/>
                    <a:ext cx="6840" cy="176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Freeform 300"/>
                  <p:cNvSpPr/>
                  <p:nvPr/>
                </p:nvSpPr>
                <p:spPr>
                  <a:xfrm>
                    <a:off x="7603920" y="1736640"/>
                    <a:ext cx="10080" cy="176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6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Freeform 301"/>
                  <p:cNvSpPr/>
                  <p:nvPr/>
                </p:nvSpPr>
                <p:spPr>
                  <a:xfrm>
                    <a:off x="7624440" y="1770120"/>
                    <a:ext cx="18360" cy="7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0"/>
                        </a:moveTo>
                        <a:lnTo>
                          <a:pt x="3" y="5"/>
                        </a:lnTo>
                        <a:lnTo>
                          <a:pt x="11" y="5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302"/>
                  <p:cNvSpPr/>
                  <p:nvPr/>
                </p:nvSpPr>
                <p:spPr>
                  <a:xfrm>
                    <a:off x="7663680" y="1774800"/>
                    <a:ext cx="15480" cy="1260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Line 303"/>
                  <p:cNvSpPr/>
                  <p:nvPr/>
                </p:nvSpPr>
                <p:spPr>
                  <a:xfrm>
                    <a:off x="7696440" y="1797120"/>
                    <a:ext cx="1692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Line 304"/>
                  <p:cNvSpPr/>
                  <p:nvPr/>
                </p:nvSpPr>
                <p:spPr>
                  <a:xfrm flipH="1">
                    <a:off x="7702560" y="1820880"/>
                    <a:ext cx="154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305"/>
                  <p:cNvSpPr/>
                  <p:nvPr/>
                </p:nvSpPr>
                <p:spPr>
                  <a:xfrm>
                    <a:off x="7675920" y="184608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8" y="0"/>
                        </a:moveTo>
                        <a:lnTo>
                          <a:pt x="5" y="3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Freeform 306"/>
                  <p:cNvSpPr/>
                  <p:nvPr/>
                </p:nvSpPr>
                <p:spPr>
                  <a:xfrm>
                    <a:off x="7665480" y="1876320"/>
                    <a:ext cx="5400" cy="190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307"/>
                  <p:cNvSpPr/>
                  <p:nvPr/>
                </p:nvSpPr>
                <p:spPr>
                  <a:xfrm>
                    <a:off x="7655400" y="1914480"/>
                    <a:ext cx="8280" cy="1728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5" y="0"/>
                        </a:moveTo>
                        <a:lnTo>
                          <a:pt x="2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Freeform 308"/>
                  <p:cNvSpPr/>
                  <p:nvPr/>
                </p:nvSpPr>
                <p:spPr>
                  <a:xfrm>
                    <a:off x="7638120" y="1950840"/>
                    <a:ext cx="11880" cy="14400"/>
                  </a:xfrm>
                  <a:custGeom>
                    <a:avLst/>
                    <a:gdLst>
                      <a:gd name="textAreaLeft" fmla="*/ 0 w 11880"/>
                      <a:gd name="textAreaRight" fmla="*/ 12240 w 118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7" y="0"/>
                        </a:move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Line 309"/>
                  <p:cNvSpPr/>
                  <p:nvPr/>
                </p:nvSpPr>
                <p:spPr>
                  <a:xfrm flipH="1">
                    <a:off x="7612200" y="197964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Line 310"/>
                  <p:cNvSpPr/>
                  <p:nvPr/>
                </p:nvSpPr>
                <p:spPr>
                  <a:xfrm flipH="1">
                    <a:off x="7588440" y="2009880"/>
                    <a:ext cx="100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311"/>
                  <p:cNvSpPr/>
                  <p:nvPr/>
                </p:nvSpPr>
                <p:spPr>
                  <a:xfrm>
                    <a:off x="7588440" y="204300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Line 312"/>
                  <p:cNvSpPr/>
                  <p:nvPr/>
                </p:nvSpPr>
                <p:spPr>
                  <a:xfrm flipH="1">
                    <a:off x="7566480" y="2079720"/>
                    <a:ext cx="115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Line 313"/>
                  <p:cNvSpPr/>
                  <p:nvPr/>
                </p:nvSpPr>
                <p:spPr>
                  <a:xfrm flipH="1">
                    <a:off x="7542000" y="210960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314"/>
                  <p:cNvSpPr/>
                  <p:nvPr/>
                </p:nvSpPr>
                <p:spPr>
                  <a:xfrm>
                    <a:off x="7525440" y="213984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0"/>
                        </a:moveTo>
                        <a:lnTo>
                          <a:pt x="1" y="3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Freeform 315"/>
                  <p:cNvSpPr/>
                  <p:nvPr/>
                </p:nvSpPr>
                <p:spPr>
                  <a:xfrm>
                    <a:off x="7520400" y="2176560"/>
                    <a:ext cx="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Line 316"/>
                  <p:cNvSpPr/>
                  <p:nvPr/>
                </p:nvSpPr>
                <p:spPr>
                  <a:xfrm>
                    <a:off x="7520400" y="221436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Line 317"/>
                  <p:cNvSpPr/>
                  <p:nvPr/>
                </p:nvSpPr>
                <p:spPr>
                  <a:xfrm>
                    <a:off x="7537320" y="2247840"/>
                    <a:ext cx="1836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Freeform 318"/>
                  <p:cNvSpPr/>
                  <p:nvPr/>
                </p:nvSpPr>
                <p:spPr>
                  <a:xfrm>
                    <a:off x="7571520" y="2268360"/>
                    <a:ext cx="16920" cy="1296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0" h="8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Freeform 319"/>
                  <p:cNvSpPr/>
                  <p:nvPr/>
                </p:nvSpPr>
                <p:spPr>
                  <a:xfrm>
                    <a:off x="7603920" y="2292120"/>
                    <a:ext cx="8280" cy="1764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5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Line 320"/>
                  <p:cNvSpPr/>
                  <p:nvPr/>
                </p:nvSpPr>
                <p:spPr>
                  <a:xfrm>
                    <a:off x="7612560" y="232884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Line 321"/>
                  <p:cNvSpPr/>
                  <p:nvPr/>
                </p:nvSpPr>
                <p:spPr>
                  <a:xfrm>
                    <a:off x="7612560" y="236520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Line 322"/>
                  <p:cNvSpPr/>
                  <p:nvPr/>
                </p:nvSpPr>
                <p:spPr>
                  <a:xfrm>
                    <a:off x="7612560" y="240336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Line 323"/>
                  <p:cNvSpPr/>
                  <p:nvPr/>
                </p:nvSpPr>
                <p:spPr>
                  <a:xfrm flipH="1">
                    <a:off x="7588080" y="244008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Line 324"/>
                  <p:cNvSpPr/>
                  <p:nvPr/>
                </p:nvSpPr>
                <p:spPr>
                  <a:xfrm flipH="1">
                    <a:off x="7562520" y="246852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Line 325"/>
                  <p:cNvSpPr/>
                  <p:nvPr/>
                </p:nvSpPr>
                <p:spPr>
                  <a:xfrm flipH="1">
                    <a:off x="7535160" y="249696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Line 326"/>
                  <p:cNvSpPr/>
                  <p:nvPr/>
                </p:nvSpPr>
                <p:spPr>
                  <a:xfrm flipH="1">
                    <a:off x="7509600" y="252576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Line 327"/>
                  <p:cNvSpPr/>
                  <p:nvPr/>
                </p:nvSpPr>
                <p:spPr>
                  <a:xfrm flipH="1">
                    <a:off x="7482600" y="2554200"/>
                    <a:ext cx="11520" cy="158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Line 328"/>
                  <p:cNvSpPr/>
                  <p:nvPr/>
                </p:nvSpPr>
                <p:spPr>
                  <a:xfrm flipH="1">
                    <a:off x="7456320" y="258444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32" name="Freeform 329"/>
            <p:cNvSpPr/>
            <p:nvPr/>
          </p:nvSpPr>
          <p:spPr>
            <a:xfrm>
              <a:off x="6870960" y="1654200"/>
              <a:ext cx="1370160" cy="8049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01" h="507">
                  <a:moveTo>
                    <a:pt x="0" y="102"/>
                  </a:moveTo>
                  <a:cubicBezTo>
                    <a:pt x="57" y="51"/>
                    <a:pt x="114" y="0"/>
                    <a:pt x="148" y="5"/>
                  </a:cubicBezTo>
                  <a:cubicBezTo>
                    <a:pt x="182" y="10"/>
                    <a:pt x="193" y="62"/>
                    <a:pt x="205" y="131"/>
                  </a:cubicBezTo>
                  <a:cubicBezTo>
                    <a:pt x="217" y="200"/>
                    <a:pt x="191" y="378"/>
                    <a:pt x="222" y="422"/>
                  </a:cubicBezTo>
                  <a:cubicBezTo>
                    <a:pt x="253" y="466"/>
                    <a:pt x="340" y="412"/>
                    <a:pt x="393" y="393"/>
                  </a:cubicBezTo>
                  <a:cubicBezTo>
                    <a:pt x="446" y="374"/>
                    <a:pt x="494" y="318"/>
                    <a:pt x="542" y="307"/>
                  </a:cubicBezTo>
                  <a:cubicBezTo>
                    <a:pt x="590" y="296"/>
                    <a:pt x="642" y="312"/>
                    <a:pt x="684" y="325"/>
                  </a:cubicBezTo>
                  <a:cubicBezTo>
                    <a:pt x="726" y="338"/>
                    <a:pt x="785" y="357"/>
                    <a:pt x="793" y="387"/>
                  </a:cubicBezTo>
                  <a:cubicBezTo>
                    <a:pt x="801" y="417"/>
                    <a:pt x="765" y="462"/>
                    <a:pt x="730" y="507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30"/>
            <p:cNvSpPr/>
            <p:nvPr/>
          </p:nvSpPr>
          <p:spPr>
            <a:xfrm>
              <a:off x="7293240" y="1581120"/>
              <a:ext cx="718200" cy="468360"/>
            </a:xfrm>
            <a:custGeom>
              <a:avLst/>
              <a:gdLst>
                <a:gd name="textAreaLeft" fmla="*/ 0 w 718200"/>
                <a:gd name="textAreaRight" fmla="*/ 718560 w 71820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20" h="295">
                  <a:moveTo>
                    <a:pt x="95" y="0"/>
                  </a:moveTo>
                  <a:cubicBezTo>
                    <a:pt x="93" y="22"/>
                    <a:pt x="92" y="44"/>
                    <a:pt x="78" y="85"/>
                  </a:cubicBezTo>
                  <a:cubicBezTo>
                    <a:pt x="64" y="126"/>
                    <a:pt x="0" y="217"/>
                    <a:pt x="10" y="245"/>
                  </a:cubicBezTo>
                  <a:cubicBezTo>
                    <a:pt x="20" y="273"/>
                    <a:pt x="96" y="245"/>
                    <a:pt x="141" y="251"/>
                  </a:cubicBezTo>
                  <a:cubicBezTo>
                    <a:pt x="186" y="257"/>
                    <a:pt x="249" y="295"/>
                    <a:pt x="283" y="279"/>
                  </a:cubicBezTo>
                  <a:cubicBezTo>
                    <a:pt x="317" y="263"/>
                    <a:pt x="323" y="180"/>
                    <a:pt x="346" y="154"/>
                  </a:cubicBezTo>
                  <a:cubicBezTo>
                    <a:pt x="369" y="128"/>
                    <a:pt x="408" y="126"/>
                    <a:pt x="420" y="120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TextBox 313"/>
          <p:cNvSpPr/>
          <p:nvPr/>
        </p:nvSpPr>
        <p:spPr>
          <a:xfrm>
            <a:off x="383040" y="1362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Group 340"/>
          <p:cNvGrpSpPr/>
          <p:nvPr/>
        </p:nvGrpSpPr>
        <p:grpSpPr>
          <a:xfrm>
            <a:off x="361440" y="5540400"/>
            <a:ext cx="8209440" cy="1212120"/>
            <a:chOff x="361440" y="5540400"/>
            <a:chExt cx="8209440" cy="1212120"/>
          </a:xfrm>
        </p:grpSpPr>
        <p:sp>
          <p:nvSpPr>
            <p:cNvPr id="1936" name="Text Box 30"/>
            <p:cNvSpPr/>
            <p:nvPr/>
          </p:nvSpPr>
          <p:spPr>
            <a:xfrm>
              <a:off x="361440" y="5810400"/>
              <a:ext cx="8209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ousehold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mmun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haracter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ross-country data harmonization challenges.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Livelihoods, Assets, Gender &amp; Access Fo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Box 314"/>
            <p:cNvSpPr/>
            <p:nvPr/>
          </p:nvSpPr>
          <p:spPr>
            <a:xfrm>
              <a:off x="375840" y="55404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I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335"/>
          <p:cNvGrpSpPr/>
          <p:nvPr/>
        </p:nvGrpSpPr>
        <p:grpSpPr>
          <a:xfrm>
            <a:off x="380880" y="3319560"/>
            <a:ext cx="8276760" cy="2000160"/>
            <a:chOff x="380880" y="3319560"/>
            <a:chExt cx="8276760" cy="2000160"/>
          </a:xfrm>
        </p:grpSpPr>
        <p:sp>
          <p:nvSpPr>
            <p:cNvPr id="1939" name="Text Box 32"/>
            <p:cNvSpPr/>
            <p:nvPr/>
          </p:nvSpPr>
          <p:spPr>
            <a:xfrm>
              <a:off x="380880" y="3941640"/>
              <a:ext cx="457164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duction/Market Context &amp; Imp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idcells/pixels as uni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atural/Human landscape patterns as well as re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product flows are unifying concepts and objec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Systems focus</a:t>
              </a:r>
              <a:r>
                <a:rPr b="1" lang="en-US" sz="14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Box 315"/>
            <p:cNvSpPr/>
            <p:nvPr/>
          </p:nvSpPr>
          <p:spPr>
            <a:xfrm>
              <a:off x="389160" y="36403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1" name="Group 332"/>
            <p:cNvGrpSpPr/>
            <p:nvPr/>
          </p:nvGrpSpPr>
          <p:grpSpPr>
            <a:xfrm>
              <a:off x="4157640" y="3319560"/>
              <a:ext cx="4500000" cy="2000160"/>
              <a:chOff x="4157640" y="3319560"/>
              <a:chExt cx="4500000" cy="2000160"/>
            </a:xfrm>
          </p:grpSpPr>
          <p:sp>
            <p:nvSpPr>
              <p:cNvPr id="1942" name="Line 34"/>
              <p:cNvSpPr/>
              <p:nvPr/>
            </p:nvSpPr>
            <p:spPr>
              <a:xfrm>
                <a:off x="5343120" y="4157640"/>
                <a:ext cx="1271880" cy="116208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5"/>
              <p:cNvSpPr/>
              <p:nvPr/>
            </p:nvSpPr>
            <p:spPr>
              <a:xfrm>
                <a:off x="4342680" y="4138560"/>
                <a:ext cx="1219320" cy="115200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6"/>
              <p:cNvSpPr/>
              <p:nvPr/>
            </p:nvSpPr>
            <p:spPr>
              <a:xfrm flipV="1">
                <a:off x="4699800" y="496656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7"/>
              <p:cNvSpPr/>
              <p:nvPr/>
            </p:nvSpPr>
            <p:spPr>
              <a:xfrm flipV="1">
                <a:off x="4157640" y="4344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8"/>
              <p:cNvSpPr/>
              <p:nvPr/>
            </p:nvSpPr>
            <p:spPr>
              <a:xfrm>
                <a:off x="502020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9"/>
              <p:cNvSpPr/>
              <p:nvPr/>
            </p:nvSpPr>
            <p:spPr>
              <a:xfrm>
                <a:off x="554004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40"/>
              <p:cNvSpPr/>
              <p:nvPr/>
            </p:nvSpPr>
            <p:spPr>
              <a:xfrm>
                <a:off x="576756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43"/>
              <p:cNvSpPr/>
              <p:nvPr/>
            </p:nvSpPr>
            <p:spPr>
              <a:xfrm flipV="1" rot="10800000">
                <a:off x="5003640" y="461736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Text Box 45"/>
              <p:cNvSpPr/>
              <p:nvPr/>
            </p:nvSpPr>
            <p:spPr>
              <a:xfrm>
                <a:off x="5965920" y="406980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Verdana"/>
                  </a:rPr>
                  <a:t>Production Syste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Text Box 46"/>
              <p:cNvSpPr/>
              <p:nvPr/>
            </p:nvSpPr>
            <p:spPr>
              <a:xfrm>
                <a:off x="6021720" y="4402440"/>
                <a:ext cx="208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b6bcf"/>
                    </a:solidFill>
                    <a:latin typeface="Verdana"/>
                  </a:rPr>
                  <a:t>Ecosystems &amp; ES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Text Box 47"/>
              <p:cNvSpPr/>
              <p:nvPr/>
            </p:nvSpPr>
            <p:spPr>
              <a:xfrm>
                <a:off x="5876280" y="3754800"/>
                <a:ext cx="278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ff"/>
                    </a:solidFill>
                    <a:latin typeface="Verdana"/>
                  </a:rPr>
                  <a:t>Infrastructure/Market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48"/>
              <p:cNvSpPr/>
              <p:nvPr/>
            </p:nvSpPr>
            <p:spPr>
              <a:xfrm flipV="1">
                <a:off x="4406400" y="4542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49"/>
              <p:cNvSpPr/>
              <p:nvPr/>
            </p:nvSpPr>
            <p:spPr>
              <a:xfrm>
                <a:off x="4838040" y="4148280"/>
                <a:ext cx="1239120" cy="115704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48"/>
              <p:cNvSpPr/>
              <p:nvPr/>
            </p:nvSpPr>
            <p:spPr>
              <a:xfrm flipV="1">
                <a:off x="4587480" y="474264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AutoShape 42"/>
              <p:cNvSpPr/>
              <p:nvPr/>
            </p:nvSpPr>
            <p:spPr>
              <a:xfrm flipV="1" rot="10800000">
                <a:off x="5017320" y="4286880"/>
                <a:ext cx="765000" cy="345960"/>
              </a:xfrm>
              <a:prstGeom prst="cube">
                <a:avLst>
                  <a:gd name="adj" fmla="val 64611"/>
                </a:avLst>
              </a:prstGeom>
              <a:solidFill>
                <a:srgbClr val="fac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AutoShape 41"/>
              <p:cNvSpPr/>
              <p:nvPr/>
            </p:nvSpPr>
            <p:spPr>
              <a:xfrm flipV="1" rot="10800000">
                <a:off x="5028120" y="3964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AutoShape 41"/>
              <p:cNvSpPr/>
              <p:nvPr/>
            </p:nvSpPr>
            <p:spPr>
              <a:xfrm flipV="1" rot="10800000">
                <a:off x="5018400" y="3640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Text Box 46"/>
              <p:cNvSpPr/>
              <p:nvPr/>
            </p:nvSpPr>
            <p:spPr>
              <a:xfrm>
                <a:off x="6015240" y="4745520"/>
                <a:ext cx="253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f0d"/>
                    </a:solidFill>
                    <a:latin typeface="Verdana"/>
                  </a:rPr>
                  <a:t>Demographics/Human Welf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44"/>
              <p:cNvSpPr/>
              <p:nvPr/>
            </p:nvSpPr>
            <p:spPr>
              <a:xfrm>
                <a:off x="524808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1" name="TextBox 322"/>
          <p:cNvSpPr/>
          <p:nvPr/>
        </p:nvSpPr>
        <p:spPr>
          <a:xfrm>
            <a:off x="193680" y="1634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Data &amp; Analysis Across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A Farm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Content Placeholder 3" descr="fs.png"/>
          <p:cNvPicPr/>
          <p:nvPr/>
        </p:nvPicPr>
        <p:blipFill>
          <a:blip r:embed="rId1"/>
          <a:stretch/>
        </p:blipFill>
        <p:spPr>
          <a:xfrm>
            <a:off x="-23760" y="914400"/>
            <a:ext cx="5468760" cy="5791320"/>
          </a:xfrm>
          <a:prstGeom prst="rect">
            <a:avLst/>
          </a:prstGeom>
          <a:ln w="0">
            <a:noFill/>
          </a:ln>
        </p:spPr>
      </p:pic>
      <p:pic>
        <p:nvPicPr>
          <p:cNvPr id="1964" name="Content Placeholder 3" descr="fs.png"/>
          <p:cNvPicPr/>
          <p:nvPr/>
        </p:nvPicPr>
        <p:blipFill>
          <a:blip r:embed="rId2"/>
          <a:stretch/>
        </p:blipFill>
        <p:spPr>
          <a:xfrm>
            <a:off x="5459400" y="1708200"/>
            <a:ext cx="3106800" cy="465624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2"/>
          <p:cNvSpPr/>
          <p:nvPr/>
        </p:nvSpPr>
        <p:spPr>
          <a:xfrm>
            <a:off x="241200" y="3505320"/>
            <a:ext cx="1892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Box 7"/>
          <p:cNvSpPr/>
          <p:nvPr/>
        </p:nvSpPr>
        <p:spPr>
          <a:xfrm>
            <a:off x="253080" y="6305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Dixon el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8" name="Content Placeholder 3" descr="africa_poppng.png"/>
          <p:cNvPicPr/>
          <p:nvPr/>
        </p:nvPicPr>
        <p:blipFill>
          <a:blip r:embed="rId1"/>
          <a:stretch/>
        </p:blipFill>
        <p:spPr>
          <a:xfrm>
            <a:off x="162000" y="380880"/>
            <a:ext cx="4275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9" name="TextBox 8"/>
          <p:cNvSpPr/>
          <p:nvPr/>
        </p:nvSpPr>
        <p:spPr>
          <a:xfrm>
            <a:off x="142920" y="43322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Box 12"/>
          <p:cNvSpPr/>
          <p:nvPr/>
        </p:nvSpPr>
        <p:spPr>
          <a:xfrm>
            <a:off x="3450240" y="378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UMP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2" name="Group 16"/>
          <p:cNvGrpSpPr/>
          <p:nvPr/>
        </p:nvGrpSpPr>
        <p:grpSpPr>
          <a:xfrm>
            <a:off x="886680" y="1065240"/>
            <a:ext cx="4592520" cy="4591800"/>
            <a:chOff x="886680" y="1065240"/>
            <a:chExt cx="4592520" cy="4591800"/>
          </a:xfrm>
        </p:grpSpPr>
        <p:grpSp>
          <p:nvGrpSpPr>
            <p:cNvPr id="1973" name="Group 2"/>
            <p:cNvGrpSpPr/>
            <p:nvPr/>
          </p:nvGrpSpPr>
          <p:grpSpPr>
            <a:xfrm>
              <a:off x="936720" y="1067040"/>
              <a:ext cx="4526280" cy="4525560"/>
              <a:chOff x="936720" y="1067040"/>
              <a:chExt cx="4526280" cy="4525560"/>
            </a:xfrm>
          </p:grpSpPr>
          <p:pic>
            <p:nvPicPr>
              <p:cNvPr id="1974" name="Content Placeholder 5" descr="headcount $1.25 per day.png"/>
              <p:cNvPicPr/>
              <p:nvPr/>
            </p:nvPicPr>
            <p:blipFill>
              <a:blip r:embed="rId1"/>
              <a:stretch/>
            </p:blipFill>
            <p:spPr>
              <a:xfrm>
                <a:off x="936720" y="1067040"/>
                <a:ext cx="4526280" cy="4525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975" name="Picture 7" descr="legend headcount $1.25 per day.png"/>
              <p:cNvPicPr/>
              <p:nvPr/>
            </p:nvPicPr>
            <p:blipFill>
              <a:blip r:embed="rId2"/>
              <a:stretch/>
            </p:blipFill>
            <p:spPr>
              <a:xfrm>
                <a:off x="1319760" y="2880360"/>
                <a:ext cx="1346400" cy="254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6" name="TextBox 9"/>
            <p:cNvSpPr/>
            <p:nvPr/>
          </p:nvSpPr>
          <p:spPr>
            <a:xfrm>
              <a:off x="886680" y="52887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TextBox 13"/>
            <p:cNvSpPr/>
            <p:nvPr/>
          </p:nvSpPr>
          <p:spPr>
            <a:xfrm>
              <a:off x="4269600" y="106524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ood et al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now replac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9" name="Group 17"/>
          <p:cNvGrpSpPr/>
          <p:nvPr/>
        </p:nvGrpSpPr>
        <p:grpSpPr>
          <a:xfrm>
            <a:off x="1988640" y="1636560"/>
            <a:ext cx="4336920" cy="4629960"/>
            <a:chOff x="1988640" y="1636560"/>
            <a:chExt cx="4336920" cy="4629960"/>
          </a:xfrm>
        </p:grpSpPr>
        <p:pic>
          <p:nvPicPr>
            <p:cNvPr id="1980" name="Content Placeholder 6" descr="Africa Cropland density.png"/>
            <p:cNvPicPr/>
            <p:nvPr/>
          </p:nvPicPr>
          <p:blipFill>
            <a:blip r:embed="rId1"/>
            <a:stretch/>
          </p:blipFill>
          <p:spPr>
            <a:xfrm>
              <a:off x="2031120" y="1675440"/>
              <a:ext cx="4275360" cy="452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81" name="TextBox 10"/>
            <p:cNvSpPr/>
            <p:nvPr/>
          </p:nvSpPr>
          <p:spPr>
            <a:xfrm>
              <a:off x="1988640" y="58982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Box 14"/>
            <p:cNvSpPr/>
            <p:nvPr/>
          </p:nvSpPr>
          <p:spPr>
            <a:xfrm>
              <a:off x="5094720" y="163656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amankutty et 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200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4" name="Content Placeholder 3" descr="africa_mkt.png"/>
          <p:cNvPicPr/>
          <p:nvPr/>
        </p:nvPicPr>
        <p:blipFill>
          <a:blip r:embed="rId1"/>
          <a:stretch/>
        </p:blipFill>
        <p:spPr>
          <a:xfrm>
            <a:off x="3457440" y="2390760"/>
            <a:ext cx="412128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85" name="Group 18"/>
          <p:cNvGrpSpPr/>
          <p:nvPr/>
        </p:nvGrpSpPr>
        <p:grpSpPr>
          <a:xfrm>
            <a:off x="3414960" y="2384280"/>
            <a:ext cx="4158000" cy="4407480"/>
            <a:chOff x="3414960" y="2384280"/>
            <a:chExt cx="4158000" cy="4407480"/>
          </a:xfrm>
        </p:grpSpPr>
        <p:sp>
          <p:nvSpPr>
            <p:cNvPr id="1986" name="TextBox 11"/>
            <p:cNvSpPr/>
            <p:nvPr/>
          </p:nvSpPr>
          <p:spPr>
            <a:xfrm>
              <a:off x="3414960" y="64234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me to &gt;50K t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Box 15"/>
            <p:cNvSpPr/>
            <p:nvPr/>
          </p:nvSpPr>
          <p:spPr>
            <a:xfrm>
              <a:off x="6499080" y="2384280"/>
              <a:ext cx="107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arvestCh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uo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1-11T15:03:52Z</dcterms:modified>
  <cp:revision>33</cp:revision>
  <dc:subject/>
  <dc:title>PowerPoint Presentation</dc:title>
</cp:coreProperties>
</file>